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8E5-13C7-47BB-ACD4-B95D0126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1BB-A833-4E04-82A3-D14014D5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6EC-9717-4184-840C-B072E56A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527-F9C3-40B6-9D7A-46350962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279-358B-4B11-9193-12F20579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7DA-4D60-466D-B8BA-61527561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652-6B74-495C-809A-DA58A0B5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D85-E2AB-47E0-BC6F-E10A831A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929-12EF-4DEF-AE70-7F7AA012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88E-1577-4605-A15B-05A5998B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62F-2ED0-4485-B556-88F0004C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3CD-F4BB-4B10-8586-D79E9150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F24C-B7AB-4395-908F-807095C7E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413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8380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in 2 pubblicazioni scientifiche di Watson, Crick e Wilkins viene descritta la struttura del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11200" y="2251080"/>
            <a:ext cx="354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imes New Roman"/>
              </a:rPr>
              <a:t>ricevono il  premio Nob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66"/>
                </a:solidFill>
                <a:latin typeface="Times New Roman"/>
              </a:rPr>
              <a:t>per la scoperta scient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501984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cc"/>
                </a:solidFill>
                <a:latin typeface="Times New Roman"/>
              </a:rPr>
              <a:t>Lo stesso Watson in un libro ammette di aver utilizzato “di nascosto” alcuni appunti della Frank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5280" y="94464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19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1760" y="231624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Times New Roman"/>
              </a:rPr>
              <a:t>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1600" y="513540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cc"/>
                </a:solidFill>
                <a:latin typeface="Times New Roman"/>
              </a:rPr>
              <a:t>19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115040" y="3381480"/>
            <a:ext cx="1094040" cy="13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2128680" y="3381480"/>
          <a:ext cx="884520" cy="13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8680" y="3381480"/>
                    <a:ext cx="88452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433680" y="3381480"/>
          <a:ext cx="10270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33680" y="3381480"/>
                    <a:ext cx="10270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876920" y="3409920"/>
          <a:ext cx="1096920" cy="132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09920"/>
                    <a:ext cx="109692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80880" y="4413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463760" y="755640"/>
            <a:ext cx="412200" cy="1188360"/>
            <a:chOff x="1463760" y="755640"/>
            <a:chExt cx="412200" cy="1188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312920" y="144504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63760" y="75564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51320" y="1136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75640" y="1330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939240" y="768240"/>
            <a:ext cx="418320" cy="1174680"/>
            <a:chOff x="939240" y="768240"/>
            <a:chExt cx="418320" cy="1174680"/>
          </a:xfrm>
        </p:grpSpPr>
        <p:sp>
          <p:nvSpPr>
            <p:cNvPr id="485" name=""/>
            <p:cNvSpPr/>
            <p:nvPr/>
          </p:nvSpPr>
          <p:spPr>
            <a:xfrm>
              <a:off x="949320" y="7682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36520" y="114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16200000">
              <a:off x="815040" y="1440360"/>
              <a:ext cx="663840" cy="34128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39240" y="13712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976400" y="754200"/>
            <a:ext cx="388800" cy="1113840"/>
            <a:chOff x="1976400" y="754200"/>
            <a:chExt cx="388800" cy="1113840"/>
          </a:xfrm>
        </p:grpSpPr>
        <p:sp>
          <p:nvSpPr>
            <p:cNvPr id="490" name=""/>
            <p:cNvSpPr/>
            <p:nvPr/>
          </p:nvSpPr>
          <p:spPr>
            <a:xfrm>
              <a:off x="1984320" y="75420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71520" y="11350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5400000">
              <a:off x="1866960" y="1388520"/>
              <a:ext cx="58860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81440" y="1295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2994480" y="763560"/>
            <a:ext cx="400320" cy="1171440"/>
            <a:chOff x="2994480" y="763560"/>
            <a:chExt cx="400320" cy="1171440"/>
          </a:xfrm>
        </p:grpSpPr>
        <p:sp>
          <p:nvSpPr>
            <p:cNvPr id="495" name=""/>
            <p:cNvSpPr/>
            <p:nvPr/>
          </p:nvSpPr>
          <p:spPr>
            <a:xfrm>
              <a:off x="2995560" y="7635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82760" y="11444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06720" y="1279440"/>
              <a:ext cx="35856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94480" y="1298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4460760" y="766800"/>
            <a:ext cx="412200" cy="1188360"/>
            <a:chOff x="4460760" y="766800"/>
            <a:chExt cx="412200" cy="1188360"/>
          </a:xfrm>
        </p:grpSpPr>
        <p:sp>
          <p:nvSpPr>
            <p:cNvPr id="500" name=""/>
            <p:cNvSpPr/>
            <p:nvPr/>
          </p:nvSpPr>
          <p:spPr>
            <a:xfrm flipV="1" rot="5400000">
              <a:off x="4309920" y="145620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60760" y="7668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48320" y="1148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72640" y="13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495240" y="758880"/>
            <a:ext cx="418320" cy="1174680"/>
            <a:chOff x="3495240" y="758880"/>
            <a:chExt cx="418320" cy="1174680"/>
          </a:xfrm>
        </p:grpSpPr>
        <p:sp>
          <p:nvSpPr>
            <p:cNvPr id="505" name=""/>
            <p:cNvSpPr/>
            <p:nvPr/>
          </p:nvSpPr>
          <p:spPr>
            <a:xfrm>
              <a:off x="3505320" y="75888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92520" y="1139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6200000">
              <a:off x="3371040" y="1431000"/>
              <a:ext cx="663840" cy="34128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95240" y="1361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406920" y="766800"/>
            <a:ext cx="388440" cy="1114560"/>
            <a:chOff x="6406920" y="766800"/>
            <a:chExt cx="388440" cy="1114560"/>
          </a:xfrm>
        </p:grpSpPr>
        <p:sp>
          <p:nvSpPr>
            <p:cNvPr id="510" name=""/>
            <p:cNvSpPr/>
            <p:nvPr/>
          </p:nvSpPr>
          <p:spPr>
            <a:xfrm>
              <a:off x="6414840" y="766800"/>
              <a:ext cx="38052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02040" y="1148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6297120" y="1401840"/>
              <a:ext cx="58896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11960" y="1308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491200" y="755640"/>
            <a:ext cx="400320" cy="1171440"/>
            <a:chOff x="2491200" y="755640"/>
            <a:chExt cx="400320" cy="1171440"/>
          </a:xfrm>
        </p:grpSpPr>
        <p:sp>
          <p:nvSpPr>
            <p:cNvPr id="515" name=""/>
            <p:cNvSpPr/>
            <p:nvPr/>
          </p:nvSpPr>
          <p:spPr>
            <a:xfrm>
              <a:off x="2492280" y="75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79480" y="11365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03440" y="1271520"/>
              <a:ext cx="35856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91200" y="129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983040" y="765000"/>
            <a:ext cx="412200" cy="1188360"/>
            <a:chOff x="3983040" y="765000"/>
            <a:chExt cx="412200" cy="1188360"/>
          </a:xfrm>
        </p:grpSpPr>
        <p:sp>
          <p:nvSpPr>
            <p:cNvPr id="520" name=""/>
            <p:cNvSpPr/>
            <p:nvPr/>
          </p:nvSpPr>
          <p:spPr>
            <a:xfrm flipV="1" rot="5400000">
              <a:off x="3832200" y="145440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983040" y="7650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70600" y="1146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94920" y="133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956120" y="765000"/>
            <a:ext cx="388800" cy="1114560"/>
            <a:chOff x="4956120" y="765000"/>
            <a:chExt cx="388800" cy="1114560"/>
          </a:xfrm>
        </p:grpSpPr>
        <p:sp>
          <p:nvSpPr>
            <p:cNvPr id="525" name=""/>
            <p:cNvSpPr/>
            <p:nvPr/>
          </p:nvSpPr>
          <p:spPr>
            <a:xfrm>
              <a:off x="4964040" y="7650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51240" y="1146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5400000">
              <a:off x="4846680" y="1400040"/>
              <a:ext cx="58896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61160" y="1306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455080" y="754200"/>
            <a:ext cx="400320" cy="1171440"/>
            <a:chOff x="5455080" y="754200"/>
            <a:chExt cx="400320" cy="1171440"/>
          </a:xfrm>
        </p:grpSpPr>
        <p:sp>
          <p:nvSpPr>
            <p:cNvPr id="530" name=""/>
            <p:cNvSpPr/>
            <p:nvPr/>
          </p:nvSpPr>
          <p:spPr>
            <a:xfrm>
              <a:off x="5456160" y="75420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43360" y="1135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67320" y="1270080"/>
              <a:ext cx="35856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55080" y="1289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463760" y="4986360"/>
            <a:ext cx="421200" cy="1132920"/>
            <a:chOff x="1463760" y="4986360"/>
            <a:chExt cx="421200" cy="1132920"/>
          </a:xfrm>
        </p:grpSpPr>
        <p:sp>
          <p:nvSpPr>
            <p:cNvPr id="535" name=""/>
            <p:cNvSpPr/>
            <p:nvPr/>
          </p:nvSpPr>
          <p:spPr>
            <a:xfrm flipV="1" rot="5400000">
              <a:off x="1325160" y="514728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1463760" y="573840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650960" y="55861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66640" y="51145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959400" y="4946400"/>
            <a:ext cx="400320" cy="1170000"/>
            <a:chOff x="959400" y="4946400"/>
            <a:chExt cx="400320" cy="1170000"/>
          </a:xfrm>
        </p:grpSpPr>
        <p:sp>
          <p:nvSpPr>
            <p:cNvPr id="540" name=""/>
            <p:cNvSpPr/>
            <p:nvPr/>
          </p:nvSpPr>
          <p:spPr>
            <a:xfrm rot="16200000">
              <a:off x="812520" y="510336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961920" y="57348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149120" y="5582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59400" y="5126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2990880" y="5016240"/>
            <a:ext cx="401040" cy="1113840"/>
            <a:chOff x="2990880" y="5016240"/>
            <a:chExt cx="401040" cy="1113840"/>
          </a:xfrm>
        </p:grpSpPr>
        <p:sp>
          <p:nvSpPr>
            <p:cNvPr id="545" name=""/>
            <p:cNvSpPr/>
            <p:nvPr/>
          </p:nvSpPr>
          <p:spPr>
            <a:xfrm flipV="1">
              <a:off x="2990880" y="5749200"/>
              <a:ext cx="381240" cy="380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178440" y="5596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 rot="16200000">
              <a:off x="2886120" y="5125320"/>
              <a:ext cx="58860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08520" y="5133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976400" y="4932000"/>
            <a:ext cx="423360" cy="1190880"/>
            <a:chOff x="1976400" y="4932000"/>
            <a:chExt cx="423360" cy="1190880"/>
          </a:xfrm>
        </p:grpSpPr>
        <p:sp>
          <p:nvSpPr>
            <p:cNvPr id="550" name=""/>
            <p:cNvSpPr/>
            <p:nvPr/>
          </p:nvSpPr>
          <p:spPr>
            <a:xfrm flipV="1">
              <a:off x="1976400" y="574200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163960" y="5589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003400" y="493164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99440" y="5095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983040" y="4997520"/>
            <a:ext cx="421200" cy="1132920"/>
            <a:chOff x="3983040" y="4997520"/>
            <a:chExt cx="421200" cy="1132920"/>
          </a:xfrm>
        </p:grpSpPr>
        <p:sp>
          <p:nvSpPr>
            <p:cNvPr id="555" name=""/>
            <p:cNvSpPr/>
            <p:nvPr/>
          </p:nvSpPr>
          <p:spPr>
            <a:xfrm flipV="1" rot="5400000">
              <a:off x="3844440" y="515844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3983040" y="57495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4170240" y="559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85920" y="5125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516840" y="4959000"/>
            <a:ext cx="400320" cy="1170000"/>
            <a:chOff x="3516840" y="4959000"/>
            <a:chExt cx="400320" cy="1170000"/>
          </a:xfrm>
        </p:grpSpPr>
        <p:sp>
          <p:nvSpPr>
            <p:cNvPr id="560" name=""/>
            <p:cNvSpPr/>
            <p:nvPr/>
          </p:nvSpPr>
          <p:spPr>
            <a:xfrm rot="16200000">
              <a:off x="3369960" y="511596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519360" y="5747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706560" y="5595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16840" y="513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5452920" y="5008320"/>
            <a:ext cx="401040" cy="1113840"/>
            <a:chOff x="5452920" y="5008320"/>
            <a:chExt cx="401040" cy="1113840"/>
          </a:xfrm>
        </p:grpSpPr>
        <p:sp>
          <p:nvSpPr>
            <p:cNvPr id="565" name=""/>
            <p:cNvSpPr/>
            <p:nvPr/>
          </p:nvSpPr>
          <p:spPr>
            <a:xfrm flipV="1">
              <a:off x="5452920" y="5741280"/>
              <a:ext cx="381240" cy="380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5640480" y="558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 rot="16200000">
              <a:off x="5348160" y="5117400"/>
              <a:ext cx="58860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70560" y="5126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402240" y="4924080"/>
            <a:ext cx="423360" cy="1190880"/>
            <a:chOff x="6402240" y="4924080"/>
            <a:chExt cx="423360" cy="1190880"/>
          </a:xfrm>
        </p:grpSpPr>
        <p:sp>
          <p:nvSpPr>
            <p:cNvPr id="570" name=""/>
            <p:cNvSpPr/>
            <p:nvPr/>
          </p:nvSpPr>
          <p:spPr>
            <a:xfrm flipV="1">
              <a:off x="6402240" y="573408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589800" y="5581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429240" y="492372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25280" y="5087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460760" y="4997520"/>
            <a:ext cx="421200" cy="1132920"/>
            <a:chOff x="4460760" y="4997520"/>
            <a:chExt cx="421200" cy="1132920"/>
          </a:xfrm>
        </p:grpSpPr>
        <p:sp>
          <p:nvSpPr>
            <p:cNvPr id="575" name=""/>
            <p:cNvSpPr/>
            <p:nvPr/>
          </p:nvSpPr>
          <p:spPr>
            <a:xfrm flipV="1" rot="5400000">
              <a:off x="4322160" y="515844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460760" y="57495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647960" y="559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63640" y="5125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489040" y="5011560"/>
            <a:ext cx="401040" cy="1114560"/>
            <a:chOff x="2489040" y="5011560"/>
            <a:chExt cx="401040" cy="1114560"/>
          </a:xfrm>
        </p:grpSpPr>
        <p:sp>
          <p:nvSpPr>
            <p:cNvPr id="580" name=""/>
            <p:cNvSpPr/>
            <p:nvPr/>
          </p:nvSpPr>
          <p:spPr>
            <a:xfrm flipV="1">
              <a:off x="2489040" y="57452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676600" y="5592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 rot="16200000">
              <a:off x="2383920" y="5121000"/>
              <a:ext cx="58896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06680" y="5129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952880" y="4922640"/>
            <a:ext cx="423360" cy="1190880"/>
            <a:chOff x="4952880" y="4922640"/>
            <a:chExt cx="423360" cy="1190880"/>
          </a:xfrm>
        </p:grpSpPr>
        <p:sp>
          <p:nvSpPr>
            <p:cNvPr id="585" name=""/>
            <p:cNvSpPr/>
            <p:nvPr/>
          </p:nvSpPr>
          <p:spPr>
            <a:xfrm flipV="1">
              <a:off x="4952880" y="57326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5140440" y="5580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4979880" y="492228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75920" y="5086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932440" y="747720"/>
            <a:ext cx="412200" cy="1188360"/>
            <a:chOff x="5932440" y="747720"/>
            <a:chExt cx="412200" cy="1188360"/>
          </a:xfrm>
        </p:grpSpPr>
        <p:sp>
          <p:nvSpPr>
            <p:cNvPr id="590" name=""/>
            <p:cNvSpPr/>
            <p:nvPr/>
          </p:nvSpPr>
          <p:spPr>
            <a:xfrm flipV="1" rot="5400000">
              <a:off x="5781600" y="143712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32440" y="74772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20000" y="1128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44320" y="1322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925960" y="4992840"/>
            <a:ext cx="421200" cy="1132920"/>
            <a:chOff x="5925960" y="4992840"/>
            <a:chExt cx="421200" cy="1132920"/>
          </a:xfrm>
        </p:grpSpPr>
        <p:sp>
          <p:nvSpPr>
            <p:cNvPr id="595" name=""/>
            <p:cNvSpPr/>
            <p:nvPr/>
          </p:nvSpPr>
          <p:spPr>
            <a:xfrm flipV="1" rot="5400000">
              <a:off x="5787360" y="515376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925960" y="574488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6113160" y="55926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28840" y="5121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1459080" y="3898800"/>
            <a:ext cx="411480" cy="1188360"/>
            <a:chOff x="1459080" y="3898800"/>
            <a:chExt cx="411480" cy="1188360"/>
          </a:xfrm>
        </p:grpSpPr>
        <p:sp>
          <p:nvSpPr>
            <p:cNvPr id="600" name=""/>
            <p:cNvSpPr/>
            <p:nvPr/>
          </p:nvSpPr>
          <p:spPr>
            <a:xfrm flipV="1" rot="5400000">
              <a:off x="1307880" y="4588560"/>
              <a:ext cx="655560" cy="34092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-360 h 340920"/>
                <a:gd name="textAreaBottom" fmla="*/ 340920 h 34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59080" y="38988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46280" y="428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70240" y="447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934560" y="3911760"/>
            <a:ext cx="418320" cy="1174680"/>
            <a:chOff x="934560" y="3911760"/>
            <a:chExt cx="418320" cy="1174680"/>
          </a:xfrm>
        </p:grpSpPr>
        <p:sp>
          <p:nvSpPr>
            <p:cNvPr id="605" name=""/>
            <p:cNvSpPr/>
            <p:nvPr/>
          </p:nvSpPr>
          <p:spPr>
            <a:xfrm>
              <a:off x="944640" y="39117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31840" y="4292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6200000">
              <a:off x="810360" y="4583880"/>
              <a:ext cx="663840" cy="34128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34560" y="45147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1971720" y="3897360"/>
            <a:ext cx="388800" cy="1113840"/>
            <a:chOff x="1971720" y="3897360"/>
            <a:chExt cx="388800" cy="1113840"/>
          </a:xfrm>
        </p:grpSpPr>
        <p:sp>
          <p:nvSpPr>
            <p:cNvPr id="610" name=""/>
            <p:cNvSpPr/>
            <p:nvPr/>
          </p:nvSpPr>
          <p:spPr>
            <a:xfrm>
              <a:off x="1979640" y="38973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66840" y="427824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5400000">
              <a:off x="1862280" y="4531680"/>
              <a:ext cx="58860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76760" y="4438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486520" y="3898800"/>
            <a:ext cx="400320" cy="1171440"/>
            <a:chOff x="2486520" y="3898800"/>
            <a:chExt cx="400320" cy="1171440"/>
          </a:xfrm>
        </p:grpSpPr>
        <p:sp>
          <p:nvSpPr>
            <p:cNvPr id="615" name=""/>
            <p:cNvSpPr/>
            <p:nvPr/>
          </p:nvSpPr>
          <p:spPr>
            <a:xfrm>
              <a:off x="2487600" y="389880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674800" y="427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98760" y="4414680"/>
              <a:ext cx="35856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86520" y="4433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1459080" y="1862280"/>
            <a:ext cx="421200" cy="1132920"/>
            <a:chOff x="1459080" y="1862280"/>
            <a:chExt cx="421200" cy="1132920"/>
          </a:xfrm>
        </p:grpSpPr>
        <p:sp>
          <p:nvSpPr>
            <p:cNvPr id="620" name=""/>
            <p:cNvSpPr/>
            <p:nvPr/>
          </p:nvSpPr>
          <p:spPr>
            <a:xfrm flipV="1" rot="5400000">
              <a:off x="1320480" y="202320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1459080" y="26143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1646280" y="246204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61960" y="19904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954720" y="1821960"/>
            <a:ext cx="400320" cy="1170000"/>
            <a:chOff x="954720" y="1821960"/>
            <a:chExt cx="400320" cy="1170000"/>
          </a:xfrm>
        </p:grpSpPr>
        <p:sp>
          <p:nvSpPr>
            <p:cNvPr id="625" name=""/>
            <p:cNvSpPr/>
            <p:nvPr/>
          </p:nvSpPr>
          <p:spPr>
            <a:xfrm rot="16200000">
              <a:off x="807840" y="197892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957240" y="261036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1144440" y="2458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54720" y="200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971720" y="1807920"/>
            <a:ext cx="423360" cy="1190880"/>
            <a:chOff x="1971720" y="1807920"/>
            <a:chExt cx="423360" cy="1190880"/>
          </a:xfrm>
        </p:grpSpPr>
        <p:sp>
          <p:nvSpPr>
            <p:cNvPr id="630" name=""/>
            <p:cNvSpPr/>
            <p:nvPr/>
          </p:nvSpPr>
          <p:spPr>
            <a:xfrm flipV="1">
              <a:off x="1971720" y="261792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2159280" y="246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1998720" y="180756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94760" y="197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484360" y="1887480"/>
            <a:ext cx="401040" cy="1114560"/>
            <a:chOff x="2484360" y="1887480"/>
            <a:chExt cx="401040" cy="1114560"/>
          </a:xfrm>
        </p:grpSpPr>
        <p:sp>
          <p:nvSpPr>
            <p:cNvPr id="635" name=""/>
            <p:cNvSpPr/>
            <p:nvPr/>
          </p:nvSpPr>
          <p:spPr>
            <a:xfrm flipV="1">
              <a:off x="2484360" y="262116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2671920" y="24685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 rot="16200000">
              <a:off x="2379240" y="1996920"/>
              <a:ext cx="58896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502000" y="200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989800" y="3890880"/>
            <a:ext cx="3801240" cy="1207440"/>
            <a:chOff x="2989800" y="3890880"/>
            <a:chExt cx="3801240" cy="1207440"/>
          </a:xfrm>
        </p:grpSpPr>
        <p:grpSp>
          <p:nvGrpSpPr>
            <p:cNvPr id="640" name=""/>
            <p:cNvGrpSpPr/>
            <p:nvPr/>
          </p:nvGrpSpPr>
          <p:grpSpPr>
            <a:xfrm>
              <a:off x="2989800" y="3906720"/>
              <a:ext cx="400320" cy="1171440"/>
              <a:chOff x="2989800" y="3906720"/>
              <a:chExt cx="400320" cy="1171440"/>
            </a:xfrm>
          </p:grpSpPr>
          <p:sp>
            <p:nvSpPr>
              <p:cNvPr id="641" name=""/>
              <p:cNvSpPr/>
              <p:nvPr/>
            </p:nvSpPr>
            <p:spPr>
              <a:xfrm>
                <a:off x="2990880" y="3906720"/>
                <a:ext cx="380880" cy="38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178080" y="42876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002040" y="4422600"/>
                <a:ext cx="358560" cy="655560"/>
              </a:xfrm>
              <a:custGeom>
                <a:avLst/>
                <a:gdLst/>
                <a:ahLst/>
                <a:rect l="l" t="t" r="r" b="b"/>
                <a:pathLst>
                  <a:path w="300" h="451">
                    <a:moveTo>
                      <a:pt x="0" y="439"/>
                    </a:moveTo>
                    <a:cubicBezTo>
                      <a:pt x="4" y="426"/>
                      <a:pt x="3" y="410"/>
                      <a:pt x="12" y="401"/>
                    </a:cubicBezTo>
                    <a:cubicBezTo>
                      <a:pt x="33" y="380"/>
                      <a:pt x="88" y="351"/>
                      <a:pt x="88" y="351"/>
                    </a:cubicBezTo>
                    <a:cubicBezTo>
                      <a:pt x="184" y="360"/>
                      <a:pt x="239" y="339"/>
                      <a:pt x="288" y="414"/>
                    </a:cubicBezTo>
                    <a:cubicBezTo>
                      <a:pt x="292" y="426"/>
                      <a:pt x="300" y="451"/>
                      <a:pt x="300" y="451"/>
                    </a:cubicBezTo>
                    <a:lnTo>
                      <a:pt x="300" y="0"/>
                    </a:lnTo>
                    <a:lnTo>
                      <a:pt x="0" y="0"/>
                    </a:lnTo>
                    <a:lnTo>
                      <a:pt x="0" y="439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89800" y="44416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4456080" y="3909960"/>
              <a:ext cx="412200" cy="1188360"/>
              <a:chOff x="4456080" y="3909960"/>
              <a:chExt cx="412200" cy="1188360"/>
            </a:xfrm>
          </p:grpSpPr>
          <p:sp>
            <p:nvSpPr>
              <p:cNvPr id="646" name=""/>
              <p:cNvSpPr/>
              <p:nvPr/>
            </p:nvSpPr>
            <p:spPr>
              <a:xfrm flipV="1" rot="5400000">
                <a:off x="4305240" y="4599360"/>
                <a:ext cx="655560" cy="34128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360 h 341280"/>
                  <a:gd name="textAreaBottom" fmla="*/ 342000 h 34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456080" y="3909960"/>
                <a:ext cx="381240" cy="381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43640" y="42912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467960" y="4484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490560" y="3902040"/>
              <a:ext cx="418320" cy="1174680"/>
              <a:chOff x="3490560" y="3902040"/>
              <a:chExt cx="418320" cy="1174680"/>
            </a:xfrm>
          </p:grpSpPr>
          <p:sp>
            <p:nvSpPr>
              <p:cNvPr id="651" name=""/>
              <p:cNvSpPr/>
              <p:nvPr/>
            </p:nvSpPr>
            <p:spPr>
              <a:xfrm>
                <a:off x="3500640" y="3902040"/>
                <a:ext cx="380880" cy="38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687840" y="4282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6200000">
                <a:off x="3366360" y="4574160"/>
                <a:ext cx="663840" cy="341280"/>
              </a:xfrm>
              <a:custGeom>
                <a:avLst/>
                <a:gdLst>
                  <a:gd name="textAreaLeft" fmla="*/ 0 w 663840"/>
                  <a:gd name="textAreaRight" fmla="*/ 664200 w 6638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90560" y="45050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6402240" y="3909960"/>
              <a:ext cx="388800" cy="1114560"/>
              <a:chOff x="6402240" y="3909960"/>
              <a:chExt cx="388800" cy="1114560"/>
            </a:xfrm>
          </p:grpSpPr>
          <p:sp>
            <p:nvSpPr>
              <p:cNvPr id="656" name=""/>
              <p:cNvSpPr/>
              <p:nvPr/>
            </p:nvSpPr>
            <p:spPr>
              <a:xfrm>
                <a:off x="6410160" y="390996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597360" y="42912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5400000">
                <a:off x="6292800" y="4545000"/>
                <a:ext cx="588960" cy="370080"/>
              </a:xfrm>
              <a:prstGeom prst="flowChartDelay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07280" y="44514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3978360" y="3908520"/>
              <a:ext cx="412200" cy="1188360"/>
              <a:chOff x="3978360" y="3908520"/>
              <a:chExt cx="412200" cy="1188360"/>
            </a:xfrm>
          </p:grpSpPr>
          <p:sp>
            <p:nvSpPr>
              <p:cNvPr id="661" name=""/>
              <p:cNvSpPr/>
              <p:nvPr/>
            </p:nvSpPr>
            <p:spPr>
              <a:xfrm flipV="1" rot="5400000">
                <a:off x="3827520" y="4597920"/>
                <a:ext cx="655560" cy="34128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360 h 341280"/>
                  <a:gd name="textAreaBottom" fmla="*/ 342000 h 34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978360" y="3908520"/>
                <a:ext cx="381240" cy="381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165920" y="42897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990240" y="4483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951440" y="3908520"/>
              <a:ext cx="388800" cy="1113840"/>
              <a:chOff x="4951440" y="3908520"/>
              <a:chExt cx="388800" cy="1113840"/>
            </a:xfrm>
          </p:grpSpPr>
          <p:sp>
            <p:nvSpPr>
              <p:cNvPr id="666" name=""/>
              <p:cNvSpPr/>
              <p:nvPr/>
            </p:nvSpPr>
            <p:spPr>
              <a:xfrm>
                <a:off x="4959360" y="3908520"/>
                <a:ext cx="380880" cy="38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146560" y="428940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5400000">
                <a:off x="4842000" y="4542840"/>
                <a:ext cx="588600" cy="370080"/>
              </a:xfrm>
              <a:prstGeom prst="flowChartDelay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956480" y="4449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5450400" y="3897360"/>
              <a:ext cx="400320" cy="1171440"/>
              <a:chOff x="5450400" y="3897360"/>
              <a:chExt cx="400320" cy="1171440"/>
            </a:xfrm>
          </p:grpSpPr>
          <p:sp>
            <p:nvSpPr>
              <p:cNvPr id="671" name=""/>
              <p:cNvSpPr/>
              <p:nvPr/>
            </p:nvSpPr>
            <p:spPr>
              <a:xfrm>
                <a:off x="5451480" y="3897360"/>
                <a:ext cx="380880" cy="38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38680" y="42782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462640" y="4413240"/>
                <a:ext cx="358560" cy="655560"/>
              </a:xfrm>
              <a:custGeom>
                <a:avLst/>
                <a:gdLst/>
                <a:ahLst/>
                <a:rect l="l" t="t" r="r" b="b"/>
                <a:pathLst>
                  <a:path w="300" h="451">
                    <a:moveTo>
                      <a:pt x="0" y="439"/>
                    </a:moveTo>
                    <a:cubicBezTo>
                      <a:pt x="4" y="426"/>
                      <a:pt x="3" y="410"/>
                      <a:pt x="12" y="401"/>
                    </a:cubicBezTo>
                    <a:cubicBezTo>
                      <a:pt x="33" y="380"/>
                      <a:pt x="88" y="351"/>
                      <a:pt x="88" y="351"/>
                    </a:cubicBezTo>
                    <a:cubicBezTo>
                      <a:pt x="184" y="360"/>
                      <a:pt x="239" y="339"/>
                      <a:pt x="288" y="414"/>
                    </a:cubicBezTo>
                    <a:cubicBezTo>
                      <a:pt x="292" y="426"/>
                      <a:pt x="300" y="451"/>
                      <a:pt x="300" y="451"/>
                    </a:cubicBezTo>
                    <a:lnTo>
                      <a:pt x="300" y="0"/>
                    </a:lnTo>
                    <a:lnTo>
                      <a:pt x="0" y="0"/>
                    </a:lnTo>
                    <a:lnTo>
                      <a:pt x="0" y="439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450400" y="4432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927760" y="3890880"/>
              <a:ext cx="412200" cy="1188360"/>
              <a:chOff x="5927760" y="3890880"/>
              <a:chExt cx="412200" cy="1188360"/>
            </a:xfrm>
          </p:grpSpPr>
          <p:sp>
            <p:nvSpPr>
              <p:cNvPr id="676" name=""/>
              <p:cNvSpPr/>
              <p:nvPr/>
            </p:nvSpPr>
            <p:spPr>
              <a:xfrm flipV="1" rot="5400000">
                <a:off x="5776920" y="4580280"/>
                <a:ext cx="655560" cy="34128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360 h 341280"/>
                  <a:gd name="textAreaBottom" fmla="*/ 342000 h 34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927760" y="3890880"/>
                <a:ext cx="381240" cy="381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115320" y="4272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939640" y="4465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0" name=""/>
          <p:cNvGrpSpPr/>
          <p:nvPr/>
        </p:nvGrpSpPr>
        <p:grpSpPr>
          <a:xfrm>
            <a:off x="2986200" y="1798200"/>
            <a:ext cx="3834720" cy="1208520"/>
            <a:chOff x="2986200" y="1798200"/>
            <a:chExt cx="3834720" cy="1208520"/>
          </a:xfrm>
        </p:grpSpPr>
        <p:grpSp>
          <p:nvGrpSpPr>
            <p:cNvPr id="681" name=""/>
            <p:cNvGrpSpPr/>
            <p:nvPr/>
          </p:nvGrpSpPr>
          <p:grpSpPr>
            <a:xfrm>
              <a:off x="2986200" y="1892160"/>
              <a:ext cx="401040" cy="1114560"/>
              <a:chOff x="2986200" y="1892160"/>
              <a:chExt cx="401040" cy="1114560"/>
            </a:xfrm>
          </p:grpSpPr>
          <p:sp>
            <p:nvSpPr>
              <p:cNvPr id="682" name=""/>
              <p:cNvSpPr/>
              <p:nvPr/>
            </p:nvSpPr>
            <p:spPr>
              <a:xfrm flipV="1">
                <a:off x="2986200" y="2625840"/>
                <a:ext cx="381240" cy="38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3173760" y="247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 rot="16200000">
                <a:off x="2881080" y="2001600"/>
                <a:ext cx="588960" cy="369720"/>
              </a:xfrm>
              <a:prstGeom prst="flowChartDelay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003840" y="2009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978360" y="1872360"/>
              <a:ext cx="421200" cy="1134000"/>
              <a:chOff x="3978360" y="1872360"/>
              <a:chExt cx="421200" cy="1134000"/>
            </a:xfrm>
          </p:grpSpPr>
          <p:sp>
            <p:nvSpPr>
              <p:cNvPr id="687" name=""/>
              <p:cNvSpPr/>
              <p:nvPr/>
            </p:nvSpPr>
            <p:spPr>
              <a:xfrm flipV="1" rot="5400000">
                <a:off x="3839400" y="2032920"/>
                <a:ext cx="663480" cy="34128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360 h 341280"/>
                  <a:gd name="textAreaBottom" fmla="*/ 342000 h 34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3978360" y="262476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165560" y="247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981240" y="20016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3512160" y="1834920"/>
              <a:ext cx="400320" cy="1170000"/>
              <a:chOff x="3512160" y="1834920"/>
              <a:chExt cx="400320" cy="1170000"/>
            </a:xfrm>
          </p:grpSpPr>
          <p:sp>
            <p:nvSpPr>
              <p:cNvPr id="692" name=""/>
              <p:cNvSpPr/>
              <p:nvPr/>
            </p:nvSpPr>
            <p:spPr>
              <a:xfrm rot="16200000">
                <a:off x="3365280" y="1991880"/>
                <a:ext cx="655560" cy="34128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3514680" y="262332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3701880" y="2471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12160" y="20145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448240" y="1884240"/>
              <a:ext cx="401040" cy="1114560"/>
              <a:chOff x="5448240" y="1884240"/>
              <a:chExt cx="401040" cy="1114560"/>
            </a:xfrm>
          </p:grpSpPr>
          <p:sp>
            <p:nvSpPr>
              <p:cNvPr id="697" name=""/>
              <p:cNvSpPr/>
              <p:nvPr/>
            </p:nvSpPr>
            <p:spPr>
              <a:xfrm flipV="1">
                <a:off x="5448240" y="2617920"/>
                <a:ext cx="381240" cy="38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5635800" y="2465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 rot="16200000">
                <a:off x="5343120" y="1993680"/>
                <a:ext cx="588960" cy="369720"/>
              </a:xfrm>
              <a:prstGeom prst="flowChartDelay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65880" y="20019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6397560" y="1800000"/>
              <a:ext cx="423360" cy="1190880"/>
              <a:chOff x="6397560" y="1800000"/>
              <a:chExt cx="423360" cy="119088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6397560" y="2610000"/>
                <a:ext cx="381240" cy="38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6585120" y="24573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424560" y="1799640"/>
                <a:ext cx="358920" cy="655560"/>
              </a:xfrm>
              <a:custGeom>
                <a:avLst/>
                <a:gdLst/>
                <a:ahLst/>
                <a:rect l="l" t="t" r="r" b="b"/>
                <a:pathLst>
                  <a:path w="300" h="451">
                    <a:moveTo>
                      <a:pt x="0" y="439"/>
                    </a:moveTo>
                    <a:cubicBezTo>
                      <a:pt x="4" y="426"/>
                      <a:pt x="3" y="410"/>
                      <a:pt x="12" y="401"/>
                    </a:cubicBezTo>
                    <a:cubicBezTo>
                      <a:pt x="33" y="380"/>
                      <a:pt x="88" y="351"/>
                      <a:pt x="88" y="351"/>
                    </a:cubicBezTo>
                    <a:cubicBezTo>
                      <a:pt x="184" y="360"/>
                      <a:pt x="239" y="339"/>
                      <a:pt x="288" y="414"/>
                    </a:cubicBezTo>
                    <a:cubicBezTo>
                      <a:pt x="292" y="426"/>
                      <a:pt x="300" y="451"/>
                      <a:pt x="300" y="451"/>
                    </a:cubicBezTo>
                    <a:lnTo>
                      <a:pt x="300" y="0"/>
                    </a:lnTo>
                    <a:lnTo>
                      <a:pt x="0" y="0"/>
                    </a:lnTo>
                    <a:lnTo>
                      <a:pt x="0" y="439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420600" y="1963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4456080" y="1872360"/>
              <a:ext cx="421200" cy="1134000"/>
              <a:chOff x="4456080" y="1872360"/>
              <a:chExt cx="421200" cy="1134000"/>
            </a:xfrm>
          </p:grpSpPr>
          <p:sp>
            <p:nvSpPr>
              <p:cNvPr id="707" name=""/>
              <p:cNvSpPr/>
              <p:nvPr/>
            </p:nvSpPr>
            <p:spPr>
              <a:xfrm flipV="1" rot="5400000">
                <a:off x="4317120" y="2032920"/>
                <a:ext cx="663480" cy="34128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360 h 341280"/>
                  <a:gd name="textAreaBottom" fmla="*/ 342000 h 34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4456080" y="262476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4643280" y="247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458960" y="20016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4948200" y="1798200"/>
              <a:ext cx="423360" cy="1190880"/>
              <a:chOff x="4948200" y="1798200"/>
              <a:chExt cx="423360" cy="119088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4948200" y="2608200"/>
                <a:ext cx="381240" cy="38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5135760" y="24555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975200" y="1797840"/>
                <a:ext cx="358920" cy="655560"/>
              </a:xfrm>
              <a:custGeom>
                <a:avLst/>
                <a:gdLst/>
                <a:ahLst/>
                <a:rect l="l" t="t" r="r" b="b"/>
                <a:pathLst>
                  <a:path w="300" h="451">
                    <a:moveTo>
                      <a:pt x="0" y="439"/>
                    </a:moveTo>
                    <a:cubicBezTo>
                      <a:pt x="4" y="426"/>
                      <a:pt x="3" y="410"/>
                      <a:pt x="12" y="401"/>
                    </a:cubicBezTo>
                    <a:cubicBezTo>
                      <a:pt x="33" y="380"/>
                      <a:pt x="88" y="351"/>
                      <a:pt x="88" y="351"/>
                    </a:cubicBezTo>
                    <a:cubicBezTo>
                      <a:pt x="184" y="360"/>
                      <a:pt x="239" y="339"/>
                      <a:pt x="288" y="414"/>
                    </a:cubicBezTo>
                    <a:cubicBezTo>
                      <a:pt x="292" y="426"/>
                      <a:pt x="300" y="451"/>
                      <a:pt x="300" y="451"/>
                    </a:cubicBezTo>
                    <a:lnTo>
                      <a:pt x="300" y="0"/>
                    </a:lnTo>
                    <a:lnTo>
                      <a:pt x="0" y="0"/>
                    </a:lnTo>
                    <a:lnTo>
                      <a:pt x="0" y="439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971240" y="1962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921280" y="1867680"/>
              <a:ext cx="421200" cy="1134000"/>
              <a:chOff x="5921280" y="1867680"/>
              <a:chExt cx="421200" cy="1134000"/>
            </a:xfrm>
          </p:grpSpPr>
          <p:sp>
            <p:nvSpPr>
              <p:cNvPr id="717" name=""/>
              <p:cNvSpPr/>
              <p:nvPr/>
            </p:nvSpPr>
            <p:spPr>
              <a:xfrm flipV="1" rot="5400000">
                <a:off x="5782320" y="2028240"/>
                <a:ext cx="663480" cy="34128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360 h 341280"/>
                  <a:gd name="textAreaBottom" fmla="*/ 342000 h 34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5921280" y="262008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6108480" y="24681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924160" y="19969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80880" y="4413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073240" y="2790720"/>
            <a:ext cx="412200" cy="1188360"/>
            <a:chOff x="2073240" y="2790720"/>
            <a:chExt cx="412200" cy="1188360"/>
          </a:xfrm>
        </p:grpSpPr>
        <p:sp>
          <p:nvSpPr>
            <p:cNvPr id="723" name=""/>
            <p:cNvSpPr/>
            <p:nvPr/>
          </p:nvSpPr>
          <p:spPr>
            <a:xfrm flipV="1" rot="5400000">
              <a:off x="1922400" y="348012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073240" y="279072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60800" y="317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85120" y="3365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548720" y="2803680"/>
            <a:ext cx="418320" cy="1174680"/>
            <a:chOff x="1548720" y="2803680"/>
            <a:chExt cx="418320" cy="1174680"/>
          </a:xfrm>
        </p:grpSpPr>
        <p:sp>
          <p:nvSpPr>
            <p:cNvPr id="728" name=""/>
            <p:cNvSpPr/>
            <p:nvPr/>
          </p:nvSpPr>
          <p:spPr>
            <a:xfrm>
              <a:off x="1558800" y="280368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46000" y="3184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6200000">
              <a:off x="1424520" y="3475800"/>
              <a:ext cx="663840" cy="34128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548720" y="3406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585880" y="2789280"/>
            <a:ext cx="388800" cy="1114560"/>
            <a:chOff x="2585880" y="2789280"/>
            <a:chExt cx="388800" cy="1114560"/>
          </a:xfrm>
        </p:grpSpPr>
        <p:sp>
          <p:nvSpPr>
            <p:cNvPr id="733" name=""/>
            <p:cNvSpPr/>
            <p:nvPr/>
          </p:nvSpPr>
          <p:spPr>
            <a:xfrm>
              <a:off x="2593800" y="278928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81000" y="3170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5400000">
              <a:off x="2476440" y="3424320"/>
              <a:ext cx="58896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90920" y="3330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604320" y="2798640"/>
            <a:ext cx="400320" cy="1171440"/>
            <a:chOff x="3604320" y="2798640"/>
            <a:chExt cx="400320" cy="1171440"/>
          </a:xfrm>
        </p:grpSpPr>
        <p:sp>
          <p:nvSpPr>
            <p:cNvPr id="738" name=""/>
            <p:cNvSpPr/>
            <p:nvPr/>
          </p:nvSpPr>
          <p:spPr>
            <a:xfrm>
              <a:off x="3605040" y="2798640"/>
              <a:ext cx="38052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92240" y="31795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16200" y="3314520"/>
              <a:ext cx="35820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04320" y="3333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5070600" y="2801880"/>
            <a:ext cx="412200" cy="1188360"/>
            <a:chOff x="5070600" y="2801880"/>
            <a:chExt cx="412200" cy="1188360"/>
          </a:xfrm>
        </p:grpSpPr>
        <p:sp>
          <p:nvSpPr>
            <p:cNvPr id="743" name=""/>
            <p:cNvSpPr/>
            <p:nvPr/>
          </p:nvSpPr>
          <p:spPr>
            <a:xfrm flipV="1" rot="5400000">
              <a:off x="4919760" y="349128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070600" y="280188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58160" y="3183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82480" y="3376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4104720" y="2793960"/>
            <a:ext cx="418320" cy="1174680"/>
            <a:chOff x="4104720" y="2793960"/>
            <a:chExt cx="418320" cy="1174680"/>
          </a:xfrm>
        </p:grpSpPr>
        <p:sp>
          <p:nvSpPr>
            <p:cNvPr id="748" name=""/>
            <p:cNvSpPr/>
            <p:nvPr/>
          </p:nvSpPr>
          <p:spPr>
            <a:xfrm>
              <a:off x="4114800" y="27939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302000" y="3174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16200000">
              <a:off x="3980520" y="3466080"/>
              <a:ext cx="663840" cy="34128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104720" y="33969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7016760" y="2801880"/>
            <a:ext cx="388800" cy="1114560"/>
            <a:chOff x="7016760" y="2801880"/>
            <a:chExt cx="388800" cy="1114560"/>
          </a:xfrm>
        </p:grpSpPr>
        <p:sp>
          <p:nvSpPr>
            <p:cNvPr id="753" name=""/>
            <p:cNvSpPr/>
            <p:nvPr/>
          </p:nvSpPr>
          <p:spPr>
            <a:xfrm>
              <a:off x="7024680" y="280188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211880" y="3183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5400000">
              <a:off x="6907320" y="3436920"/>
              <a:ext cx="58896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21800" y="3343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3101040" y="2790720"/>
            <a:ext cx="400320" cy="1171440"/>
            <a:chOff x="3101040" y="2790720"/>
            <a:chExt cx="400320" cy="1171440"/>
          </a:xfrm>
        </p:grpSpPr>
        <p:sp>
          <p:nvSpPr>
            <p:cNvPr id="758" name=""/>
            <p:cNvSpPr/>
            <p:nvPr/>
          </p:nvSpPr>
          <p:spPr>
            <a:xfrm>
              <a:off x="3101760" y="2790720"/>
              <a:ext cx="38052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88960" y="3171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12920" y="3306600"/>
              <a:ext cx="35820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101040" y="3325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592520" y="2800440"/>
            <a:ext cx="412200" cy="1188360"/>
            <a:chOff x="4592520" y="2800440"/>
            <a:chExt cx="412200" cy="1188360"/>
          </a:xfrm>
        </p:grpSpPr>
        <p:sp>
          <p:nvSpPr>
            <p:cNvPr id="763" name=""/>
            <p:cNvSpPr/>
            <p:nvPr/>
          </p:nvSpPr>
          <p:spPr>
            <a:xfrm flipV="1" rot="5400000">
              <a:off x="4441680" y="348984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92520" y="280044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780080" y="3181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04400" y="3375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5565600" y="2800440"/>
            <a:ext cx="388800" cy="1113840"/>
            <a:chOff x="5565600" y="2800440"/>
            <a:chExt cx="388800" cy="1113840"/>
          </a:xfrm>
        </p:grpSpPr>
        <p:sp>
          <p:nvSpPr>
            <p:cNvPr id="768" name=""/>
            <p:cNvSpPr/>
            <p:nvPr/>
          </p:nvSpPr>
          <p:spPr>
            <a:xfrm>
              <a:off x="5573520" y="28004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60720" y="31813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5456160" y="3434760"/>
              <a:ext cx="58860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70640" y="3341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6064920" y="2789280"/>
            <a:ext cx="400320" cy="1171440"/>
            <a:chOff x="6064920" y="2789280"/>
            <a:chExt cx="400320" cy="1171440"/>
          </a:xfrm>
        </p:grpSpPr>
        <p:sp>
          <p:nvSpPr>
            <p:cNvPr id="773" name=""/>
            <p:cNvSpPr/>
            <p:nvPr/>
          </p:nvSpPr>
          <p:spPr>
            <a:xfrm>
              <a:off x="6065640" y="2789280"/>
              <a:ext cx="38052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52840" y="3170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76800" y="3305160"/>
              <a:ext cx="35820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64920" y="332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6541920" y="2782800"/>
            <a:ext cx="412200" cy="1188360"/>
            <a:chOff x="6541920" y="2782800"/>
            <a:chExt cx="412200" cy="1188360"/>
          </a:xfrm>
        </p:grpSpPr>
        <p:sp>
          <p:nvSpPr>
            <p:cNvPr id="778" name=""/>
            <p:cNvSpPr/>
            <p:nvPr/>
          </p:nvSpPr>
          <p:spPr>
            <a:xfrm flipV="1" rot="5400000">
              <a:off x="6391080" y="347220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541920" y="27828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729480" y="3164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53800" y="3357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2068560" y="3897360"/>
            <a:ext cx="421200" cy="1132920"/>
            <a:chOff x="2068560" y="3897360"/>
            <a:chExt cx="421200" cy="1132920"/>
          </a:xfrm>
        </p:grpSpPr>
        <p:sp>
          <p:nvSpPr>
            <p:cNvPr id="783" name=""/>
            <p:cNvSpPr/>
            <p:nvPr/>
          </p:nvSpPr>
          <p:spPr>
            <a:xfrm flipV="1" rot="5400000">
              <a:off x="1929960" y="405828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068560" y="464940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2255760" y="44971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071440" y="40255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564200" y="3857400"/>
            <a:ext cx="400320" cy="1170000"/>
            <a:chOff x="1564200" y="3857400"/>
            <a:chExt cx="400320" cy="1170000"/>
          </a:xfrm>
        </p:grpSpPr>
        <p:sp>
          <p:nvSpPr>
            <p:cNvPr id="788" name=""/>
            <p:cNvSpPr/>
            <p:nvPr/>
          </p:nvSpPr>
          <p:spPr>
            <a:xfrm rot="16200000">
              <a:off x="1417320" y="401436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1566720" y="46458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1753920" y="4493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64200" y="4037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581200" y="3843000"/>
            <a:ext cx="423360" cy="1190880"/>
            <a:chOff x="2581200" y="3843000"/>
            <a:chExt cx="423360" cy="1190880"/>
          </a:xfrm>
        </p:grpSpPr>
        <p:sp>
          <p:nvSpPr>
            <p:cNvPr id="793" name=""/>
            <p:cNvSpPr/>
            <p:nvPr/>
          </p:nvSpPr>
          <p:spPr>
            <a:xfrm flipV="1">
              <a:off x="2581200" y="465300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2768760" y="4500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2608200" y="384264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04240" y="4006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3094200" y="3922560"/>
            <a:ext cx="401040" cy="1114560"/>
            <a:chOff x="3094200" y="3922560"/>
            <a:chExt cx="401040" cy="1114560"/>
          </a:xfrm>
        </p:grpSpPr>
        <p:sp>
          <p:nvSpPr>
            <p:cNvPr id="798" name=""/>
            <p:cNvSpPr/>
            <p:nvPr/>
          </p:nvSpPr>
          <p:spPr>
            <a:xfrm flipV="1">
              <a:off x="3094200" y="46562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3281760" y="4503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16200000">
              <a:off x="2989080" y="4032000"/>
              <a:ext cx="58896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111840" y="4040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595680" y="3833280"/>
            <a:ext cx="3834720" cy="1208520"/>
            <a:chOff x="3595680" y="3833280"/>
            <a:chExt cx="3834720" cy="1208520"/>
          </a:xfrm>
        </p:grpSpPr>
        <p:grpSp>
          <p:nvGrpSpPr>
            <p:cNvPr id="803" name=""/>
            <p:cNvGrpSpPr/>
            <p:nvPr/>
          </p:nvGrpSpPr>
          <p:grpSpPr>
            <a:xfrm>
              <a:off x="3595680" y="3927240"/>
              <a:ext cx="401040" cy="1114560"/>
              <a:chOff x="3595680" y="3927240"/>
              <a:chExt cx="401040" cy="111456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3595680" y="4660920"/>
                <a:ext cx="381240" cy="38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3783240" y="45082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 rot="16200000">
                <a:off x="3490560" y="4036680"/>
                <a:ext cx="588960" cy="369720"/>
              </a:xfrm>
              <a:prstGeom prst="flowChartDelay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13320" y="40449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4587840" y="3907440"/>
              <a:ext cx="421200" cy="1134000"/>
              <a:chOff x="4587840" y="3907440"/>
              <a:chExt cx="421200" cy="1134000"/>
            </a:xfrm>
          </p:grpSpPr>
          <p:sp>
            <p:nvSpPr>
              <p:cNvPr id="809" name=""/>
              <p:cNvSpPr/>
              <p:nvPr/>
            </p:nvSpPr>
            <p:spPr>
              <a:xfrm flipV="1" rot="5400000">
                <a:off x="4448880" y="4068000"/>
                <a:ext cx="663480" cy="34128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360 h 341280"/>
                  <a:gd name="textAreaBottom" fmla="*/ 342000 h 34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4587840" y="465984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4775040" y="4507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590720" y="40366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121640" y="3870000"/>
              <a:ext cx="400320" cy="1170000"/>
              <a:chOff x="4121640" y="3870000"/>
              <a:chExt cx="400320" cy="1170000"/>
            </a:xfrm>
          </p:grpSpPr>
          <p:sp>
            <p:nvSpPr>
              <p:cNvPr id="814" name=""/>
              <p:cNvSpPr/>
              <p:nvPr/>
            </p:nvSpPr>
            <p:spPr>
              <a:xfrm rot="16200000">
                <a:off x="3974760" y="4026960"/>
                <a:ext cx="655560" cy="34128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4124160" y="465840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4311360" y="45064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121640" y="4049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6057720" y="3919320"/>
              <a:ext cx="401040" cy="1114560"/>
              <a:chOff x="6057720" y="3919320"/>
              <a:chExt cx="401040" cy="1114560"/>
            </a:xfrm>
          </p:grpSpPr>
          <p:sp>
            <p:nvSpPr>
              <p:cNvPr id="819" name=""/>
              <p:cNvSpPr/>
              <p:nvPr/>
            </p:nvSpPr>
            <p:spPr>
              <a:xfrm flipV="1">
                <a:off x="6057720" y="4653000"/>
                <a:ext cx="381240" cy="38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245280" y="4500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 rot="16200000">
                <a:off x="5952600" y="4028760"/>
                <a:ext cx="588960" cy="369720"/>
              </a:xfrm>
              <a:prstGeom prst="flowChartDelay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075360" y="40370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7007040" y="3835080"/>
              <a:ext cx="423360" cy="1190880"/>
              <a:chOff x="7007040" y="3835080"/>
              <a:chExt cx="423360" cy="1190880"/>
            </a:xfrm>
          </p:grpSpPr>
          <p:sp>
            <p:nvSpPr>
              <p:cNvPr id="824" name=""/>
              <p:cNvSpPr/>
              <p:nvPr/>
            </p:nvSpPr>
            <p:spPr>
              <a:xfrm flipV="1">
                <a:off x="7007040" y="4645080"/>
                <a:ext cx="381240" cy="38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7194600" y="44924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7034040" y="3834720"/>
                <a:ext cx="358920" cy="655560"/>
              </a:xfrm>
              <a:custGeom>
                <a:avLst/>
                <a:gdLst/>
                <a:ahLst/>
                <a:rect l="l" t="t" r="r" b="b"/>
                <a:pathLst>
                  <a:path w="300" h="451">
                    <a:moveTo>
                      <a:pt x="0" y="439"/>
                    </a:moveTo>
                    <a:cubicBezTo>
                      <a:pt x="4" y="426"/>
                      <a:pt x="3" y="410"/>
                      <a:pt x="12" y="401"/>
                    </a:cubicBezTo>
                    <a:cubicBezTo>
                      <a:pt x="33" y="380"/>
                      <a:pt x="88" y="351"/>
                      <a:pt x="88" y="351"/>
                    </a:cubicBezTo>
                    <a:cubicBezTo>
                      <a:pt x="184" y="360"/>
                      <a:pt x="239" y="339"/>
                      <a:pt x="288" y="414"/>
                    </a:cubicBezTo>
                    <a:cubicBezTo>
                      <a:pt x="292" y="426"/>
                      <a:pt x="300" y="451"/>
                      <a:pt x="300" y="451"/>
                    </a:cubicBezTo>
                    <a:lnTo>
                      <a:pt x="300" y="0"/>
                    </a:lnTo>
                    <a:lnTo>
                      <a:pt x="0" y="0"/>
                    </a:lnTo>
                    <a:lnTo>
                      <a:pt x="0" y="439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30080" y="3998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065560" y="3907440"/>
              <a:ext cx="421200" cy="1134000"/>
              <a:chOff x="5065560" y="3907440"/>
              <a:chExt cx="421200" cy="1134000"/>
            </a:xfrm>
          </p:grpSpPr>
          <p:sp>
            <p:nvSpPr>
              <p:cNvPr id="829" name=""/>
              <p:cNvSpPr/>
              <p:nvPr/>
            </p:nvSpPr>
            <p:spPr>
              <a:xfrm flipV="1" rot="5400000">
                <a:off x="4926600" y="4068000"/>
                <a:ext cx="663480" cy="34128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360 h 341280"/>
                  <a:gd name="textAreaBottom" fmla="*/ 342000 h 34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5065560" y="465984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252760" y="4507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068440" y="40366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5557680" y="3833280"/>
              <a:ext cx="423360" cy="1190880"/>
              <a:chOff x="5557680" y="3833280"/>
              <a:chExt cx="423360" cy="1190880"/>
            </a:xfrm>
          </p:grpSpPr>
          <p:sp>
            <p:nvSpPr>
              <p:cNvPr id="834" name=""/>
              <p:cNvSpPr/>
              <p:nvPr/>
            </p:nvSpPr>
            <p:spPr>
              <a:xfrm flipV="1">
                <a:off x="5557680" y="4643280"/>
                <a:ext cx="381240" cy="38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5745240" y="44906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584680" y="3832920"/>
                <a:ext cx="358920" cy="655560"/>
              </a:xfrm>
              <a:custGeom>
                <a:avLst/>
                <a:gdLst/>
                <a:ahLst/>
                <a:rect l="l" t="t" r="r" b="b"/>
                <a:pathLst>
                  <a:path w="300" h="451">
                    <a:moveTo>
                      <a:pt x="0" y="439"/>
                    </a:moveTo>
                    <a:cubicBezTo>
                      <a:pt x="4" y="426"/>
                      <a:pt x="3" y="410"/>
                      <a:pt x="12" y="401"/>
                    </a:cubicBezTo>
                    <a:cubicBezTo>
                      <a:pt x="33" y="380"/>
                      <a:pt x="88" y="351"/>
                      <a:pt x="88" y="351"/>
                    </a:cubicBezTo>
                    <a:cubicBezTo>
                      <a:pt x="184" y="360"/>
                      <a:pt x="239" y="339"/>
                      <a:pt x="288" y="414"/>
                    </a:cubicBezTo>
                    <a:cubicBezTo>
                      <a:pt x="292" y="426"/>
                      <a:pt x="300" y="451"/>
                      <a:pt x="300" y="451"/>
                    </a:cubicBezTo>
                    <a:lnTo>
                      <a:pt x="300" y="0"/>
                    </a:lnTo>
                    <a:lnTo>
                      <a:pt x="0" y="0"/>
                    </a:lnTo>
                    <a:lnTo>
                      <a:pt x="0" y="439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580720" y="3997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6530760" y="3902760"/>
              <a:ext cx="421200" cy="1134000"/>
              <a:chOff x="6530760" y="3902760"/>
              <a:chExt cx="421200" cy="1134000"/>
            </a:xfrm>
          </p:grpSpPr>
          <p:sp>
            <p:nvSpPr>
              <p:cNvPr id="839" name=""/>
              <p:cNvSpPr/>
              <p:nvPr/>
            </p:nvSpPr>
            <p:spPr>
              <a:xfrm flipV="1" rot="5400000">
                <a:off x="6391800" y="4063320"/>
                <a:ext cx="663480" cy="34128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360 h 341280"/>
                  <a:gd name="textAreaBottom" fmla="*/ 342000 h 34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6530760" y="465516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717960" y="4503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533640" y="40320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3" name=""/>
          <p:cNvSpPr/>
          <p:nvPr/>
        </p:nvSpPr>
        <p:spPr>
          <a:xfrm>
            <a:off x="3029040" y="1028880"/>
            <a:ext cx="0" cy="276192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33840" y="1009800"/>
            <a:ext cx="0" cy="276228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019920" y="1047600"/>
            <a:ext cx="0" cy="276228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737360" y="1414440"/>
            <a:ext cx="102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99"/>
                </a:solidFill>
                <a:latin typeface="Times New Roman"/>
              </a:rPr>
              <a:t>A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04360" y="1395360"/>
            <a:ext cx="105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66ccff"/>
                </a:solidFill>
                <a:latin typeface="Times New Roman"/>
              </a:rPr>
              <a:t>L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4560" y="137628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99ff"/>
                </a:solidFill>
                <a:latin typeface="Times New Roman"/>
              </a:rPr>
              <a:t>P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52840" y="13572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ff33"/>
                </a:solidFill>
                <a:latin typeface="Times New Roman"/>
              </a:rPr>
              <a:t>Th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380880" y="4017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81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745000" y="2162160"/>
            <a:ext cx="38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sequenziamento del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772080" y="41432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Times New Roman"/>
              </a:rPr>
              <a:t>clonagg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97600" y="477216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Times New Roman"/>
              </a:rPr>
              <a:t>sintesi del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097880" y="513396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Times New Roman"/>
              </a:rPr>
              <a:t>P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416680" y="53244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spressione di geni autolog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98320" y="5495760"/>
            <a:ext cx="44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spressione di geni eterolog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278520" y="58104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struttura del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429360" y="325440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Times New Roman"/>
              </a:rPr>
              <a:t>codice gene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72440" y="5553000"/>
            <a:ext cx="17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utagen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80880" y="4017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81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57960" y="18162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ff33"/>
                </a:solidFill>
                <a:latin typeface="Times New Roman"/>
              </a:rPr>
              <a:t>G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952560" y="2647440"/>
            <a:ext cx="1181160" cy="1908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114640" y="2647440"/>
            <a:ext cx="1181160" cy="190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276720" y="2647440"/>
            <a:ext cx="1181160" cy="19080"/>
          </a:xfrm>
          <a:prstGeom prst="line">
            <a:avLst/>
          </a:prstGeom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476280" y="4304880"/>
            <a:ext cx="1181160" cy="1908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095560" y="4304880"/>
            <a:ext cx="1181160" cy="1908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733920" y="4304880"/>
            <a:ext cx="1181160" cy="19080"/>
          </a:xfrm>
          <a:prstGeom prst="line">
            <a:avLst/>
          </a:prstGeom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5372280" y="4304880"/>
            <a:ext cx="1180800" cy="1908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7010280" y="4304880"/>
            <a:ext cx="1181160" cy="19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1657440" y="4267080"/>
            <a:ext cx="5352840" cy="95040"/>
            <a:chOff x="1657440" y="4267080"/>
            <a:chExt cx="5352840" cy="95040"/>
          </a:xfrm>
        </p:grpSpPr>
        <p:grpSp>
          <p:nvGrpSpPr>
            <p:cNvPr id="871" name=""/>
            <p:cNvGrpSpPr/>
            <p:nvPr/>
          </p:nvGrpSpPr>
          <p:grpSpPr>
            <a:xfrm>
              <a:off x="1657440" y="4267080"/>
              <a:ext cx="457200" cy="95040"/>
              <a:chOff x="1657440" y="4267080"/>
              <a:chExt cx="457200" cy="95040"/>
            </a:xfrm>
          </p:grpSpPr>
          <p:sp>
            <p:nvSpPr>
              <p:cNvPr id="872" name=""/>
              <p:cNvSpPr/>
              <p:nvPr/>
            </p:nvSpPr>
            <p:spPr>
              <a:xfrm>
                <a:off x="1657440" y="4267080"/>
                <a:ext cx="457200" cy="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657440" y="4362120"/>
                <a:ext cx="457200" cy="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3276720" y="4267080"/>
              <a:ext cx="457200" cy="95040"/>
              <a:chOff x="3276720" y="4267080"/>
              <a:chExt cx="457200" cy="95040"/>
            </a:xfrm>
          </p:grpSpPr>
          <p:sp>
            <p:nvSpPr>
              <p:cNvPr id="875" name=""/>
              <p:cNvSpPr/>
              <p:nvPr/>
            </p:nvSpPr>
            <p:spPr>
              <a:xfrm>
                <a:off x="3276720" y="4267080"/>
                <a:ext cx="457200" cy="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276720" y="4362120"/>
                <a:ext cx="457200" cy="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4915080" y="4267080"/>
              <a:ext cx="457200" cy="95040"/>
              <a:chOff x="4915080" y="4267080"/>
              <a:chExt cx="457200" cy="95040"/>
            </a:xfrm>
          </p:grpSpPr>
          <p:sp>
            <p:nvSpPr>
              <p:cNvPr id="878" name=""/>
              <p:cNvSpPr/>
              <p:nvPr/>
            </p:nvSpPr>
            <p:spPr>
              <a:xfrm>
                <a:off x="4915080" y="4267080"/>
                <a:ext cx="457200" cy="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915080" y="4362120"/>
                <a:ext cx="457200" cy="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6553080" y="4267080"/>
              <a:ext cx="457200" cy="95040"/>
              <a:chOff x="6553080" y="4267080"/>
              <a:chExt cx="457200" cy="95040"/>
            </a:xfrm>
          </p:grpSpPr>
          <p:sp>
            <p:nvSpPr>
              <p:cNvPr id="881" name=""/>
              <p:cNvSpPr/>
              <p:nvPr/>
            </p:nvSpPr>
            <p:spPr>
              <a:xfrm>
                <a:off x="6553080" y="4267080"/>
                <a:ext cx="457200" cy="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553080" y="4362120"/>
                <a:ext cx="457200" cy="0"/>
              </a:xfrm>
              <a:prstGeom prst="line">
                <a:avLst/>
              </a:prstGeom>
              <a:ln w="3240">
                <a:solidFill>
                  <a:srgbClr val="cc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80880" y="4017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81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695160" y="1282680"/>
          <a:ext cx="7791480" cy="1354320"/>
        </p:xfrm>
        <a:graphic>
          <a:graphicData uri="http://schemas.openxmlformats.org/drawingml/2006/table">
            <a:tbl>
              <a:tblPr/>
              <a:tblGrid>
                <a:gridCol w="1947960"/>
                <a:gridCol w="1947960"/>
                <a:gridCol w="1947600"/>
                <a:gridCol w="194796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gan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gaba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i/Mba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.pylo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5" name=""/>
          <p:cNvGraphicFramePr/>
          <p:nvPr/>
        </p:nvGraphicFramePr>
        <p:xfrm>
          <a:off x="695160" y="2635200"/>
          <a:ext cx="7791480" cy="676440"/>
        </p:xfrm>
        <a:graphic>
          <a:graphicData uri="http://schemas.openxmlformats.org/drawingml/2006/table">
            <a:tbl>
              <a:tblPr/>
              <a:tblGrid>
                <a:gridCol w="1947960"/>
                <a:gridCol w="1947960"/>
                <a:gridCol w="1947960"/>
                <a:gridCol w="194760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S.cere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5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6" name=""/>
          <p:cNvGraphicFramePr/>
          <p:nvPr/>
        </p:nvGraphicFramePr>
        <p:xfrm>
          <a:off x="695160" y="3321000"/>
          <a:ext cx="7791480" cy="676440"/>
        </p:xfrm>
        <a:graphic>
          <a:graphicData uri="http://schemas.openxmlformats.org/drawingml/2006/table">
            <a:tbl>
              <a:tblPr/>
              <a:tblGrid>
                <a:gridCol w="1947960"/>
                <a:gridCol w="1947960"/>
                <a:gridCol w="1947960"/>
                <a:gridCol w="194760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C.eleg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19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1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7" name=""/>
          <p:cNvGraphicFramePr/>
          <p:nvPr/>
        </p:nvGraphicFramePr>
        <p:xfrm>
          <a:off x="695160" y="4006800"/>
          <a:ext cx="7791480" cy="676440"/>
        </p:xfrm>
        <a:graphic>
          <a:graphicData uri="http://schemas.openxmlformats.org/drawingml/2006/table">
            <a:tbl>
              <a:tblPr/>
              <a:tblGrid>
                <a:gridCol w="1947960"/>
                <a:gridCol w="1947960"/>
                <a:gridCol w="1947960"/>
                <a:gridCol w="194760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99ff66"/>
                          </a:solidFill>
                          <a:latin typeface="Times New Roman"/>
                        </a:rPr>
                        <a:t>D.melan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99ff66"/>
                          </a:solidFill>
                          <a:latin typeface="Times New Roman"/>
                        </a:rPr>
                        <a:t>1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99ff66"/>
                          </a:solidFill>
                          <a:latin typeface="Times New Roman"/>
                        </a:rPr>
                        <a:t>13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99ff66"/>
                          </a:solidFill>
                          <a:latin typeface="Times New Roman"/>
                        </a:rPr>
                        <a:t>1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695160" y="4692600"/>
          <a:ext cx="7791480" cy="676440"/>
        </p:xfrm>
        <a:graphic>
          <a:graphicData uri="http://schemas.openxmlformats.org/drawingml/2006/table">
            <a:tbl>
              <a:tblPr/>
              <a:tblGrid>
                <a:gridCol w="1947960"/>
                <a:gridCol w="1947960"/>
                <a:gridCol w="1947960"/>
                <a:gridCol w="1947600"/>
              </a:tblGrid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H.sapi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2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39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80880" y="4413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81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3040" y="630360"/>
            <a:ext cx="1047600" cy="744480"/>
          </a:xfrm>
          <a:custGeom>
            <a:avLst/>
            <a:gdLst/>
            <a:ahLst/>
            <a:rect l="l" t="t" r="r" b="b"/>
            <a:pathLst>
              <a:path w="660" h="469">
                <a:moveTo>
                  <a:pt x="72" y="71"/>
                </a:moveTo>
                <a:cubicBezTo>
                  <a:pt x="84" y="95"/>
                  <a:pt x="102" y="117"/>
                  <a:pt x="108" y="143"/>
                </a:cubicBezTo>
                <a:cubicBezTo>
                  <a:pt x="145" y="307"/>
                  <a:pt x="68" y="270"/>
                  <a:pt x="156" y="299"/>
                </a:cubicBezTo>
                <a:cubicBezTo>
                  <a:pt x="244" y="270"/>
                  <a:pt x="210" y="293"/>
                  <a:pt x="264" y="239"/>
                </a:cubicBezTo>
                <a:cubicBezTo>
                  <a:pt x="249" y="162"/>
                  <a:pt x="243" y="156"/>
                  <a:pt x="168" y="131"/>
                </a:cubicBezTo>
                <a:cubicBezTo>
                  <a:pt x="73" y="142"/>
                  <a:pt x="48" y="130"/>
                  <a:pt x="0" y="203"/>
                </a:cubicBezTo>
                <a:cubicBezTo>
                  <a:pt x="28" y="316"/>
                  <a:pt x="95" y="291"/>
                  <a:pt x="192" y="335"/>
                </a:cubicBezTo>
                <a:cubicBezTo>
                  <a:pt x="301" y="385"/>
                  <a:pt x="327" y="373"/>
                  <a:pt x="468" y="383"/>
                </a:cubicBezTo>
                <a:cubicBezTo>
                  <a:pt x="477" y="389"/>
                  <a:pt x="533" y="415"/>
                  <a:pt x="516" y="443"/>
                </a:cubicBezTo>
                <a:cubicBezTo>
                  <a:pt x="507" y="458"/>
                  <a:pt x="484" y="459"/>
                  <a:pt x="468" y="467"/>
                </a:cubicBezTo>
                <a:cubicBezTo>
                  <a:pt x="381" y="459"/>
                  <a:pt x="267" y="469"/>
                  <a:pt x="192" y="419"/>
                </a:cubicBezTo>
                <a:cubicBezTo>
                  <a:pt x="196" y="387"/>
                  <a:pt x="191" y="352"/>
                  <a:pt x="204" y="323"/>
                </a:cubicBezTo>
                <a:cubicBezTo>
                  <a:pt x="209" y="311"/>
                  <a:pt x="230" y="318"/>
                  <a:pt x="240" y="311"/>
                </a:cubicBezTo>
                <a:cubicBezTo>
                  <a:pt x="258" y="298"/>
                  <a:pt x="274" y="281"/>
                  <a:pt x="288" y="263"/>
                </a:cubicBezTo>
                <a:cubicBezTo>
                  <a:pt x="306" y="240"/>
                  <a:pt x="336" y="191"/>
                  <a:pt x="336" y="191"/>
                </a:cubicBezTo>
                <a:cubicBezTo>
                  <a:pt x="318" y="119"/>
                  <a:pt x="304" y="135"/>
                  <a:pt x="252" y="83"/>
                </a:cubicBezTo>
                <a:cubicBezTo>
                  <a:pt x="192" y="87"/>
                  <a:pt x="128" y="74"/>
                  <a:pt x="72" y="95"/>
                </a:cubicBezTo>
                <a:cubicBezTo>
                  <a:pt x="45" y="105"/>
                  <a:pt x="33" y="140"/>
                  <a:pt x="24" y="167"/>
                </a:cubicBezTo>
                <a:cubicBezTo>
                  <a:pt x="16" y="191"/>
                  <a:pt x="0" y="239"/>
                  <a:pt x="0" y="239"/>
                </a:cubicBezTo>
                <a:cubicBezTo>
                  <a:pt x="8" y="271"/>
                  <a:pt x="10" y="320"/>
                  <a:pt x="60" y="323"/>
                </a:cubicBezTo>
                <a:cubicBezTo>
                  <a:pt x="116" y="326"/>
                  <a:pt x="228" y="299"/>
                  <a:pt x="228" y="299"/>
                </a:cubicBezTo>
                <a:cubicBezTo>
                  <a:pt x="240" y="291"/>
                  <a:pt x="251" y="281"/>
                  <a:pt x="264" y="275"/>
                </a:cubicBezTo>
                <a:cubicBezTo>
                  <a:pt x="279" y="269"/>
                  <a:pt x="298" y="271"/>
                  <a:pt x="312" y="263"/>
                </a:cubicBezTo>
                <a:cubicBezTo>
                  <a:pt x="327" y="255"/>
                  <a:pt x="334" y="237"/>
                  <a:pt x="348" y="227"/>
                </a:cubicBezTo>
                <a:cubicBezTo>
                  <a:pt x="374" y="208"/>
                  <a:pt x="405" y="197"/>
                  <a:pt x="432" y="179"/>
                </a:cubicBezTo>
                <a:cubicBezTo>
                  <a:pt x="460" y="183"/>
                  <a:pt x="493" y="175"/>
                  <a:pt x="516" y="191"/>
                </a:cubicBezTo>
                <a:cubicBezTo>
                  <a:pt x="538" y="207"/>
                  <a:pt x="570" y="269"/>
                  <a:pt x="540" y="299"/>
                </a:cubicBezTo>
                <a:cubicBezTo>
                  <a:pt x="531" y="308"/>
                  <a:pt x="516" y="307"/>
                  <a:pt x="504" y="311"/>
                </a:cubicBezTo>
                <a:cubicBezTo>
                  <a:pt x="388" y="307"/>
                  <a:pt x="271" y="317"/>
                  <a:pt x="156" y="299"/>
                </a:cubicBezTo>
                <a:cubicBezTo>
                  <a:pt x="136" y="296"/>
                  <a:pt x="190" y="277"/>
                  <a:pt x="204" y="263"/>
                </a:cubicBezTo>
                <a:cubicBezTo>
                  <a:pt x="274" y="193"/>
                  <a:pt x="150" y="247"/>
                  <a:pt x="324" y="203"/>
                </a:cubicBezTo>
                <a:cubicBezTo>
                  <a:pt x="407" y="148"/>
                  <a:pt x="387" y="182"/>
                  <a:pt x="408" y="119"/>
                </a:cubicBezTo>
                <a:cubicBezTo>
                  <a:pt x="404" y="107"/>
                  <a:pt x="404" y="93"/>
                  <a:pt x="396" y="83"/>
                </a:cubicBezTo>
                <a:cubicBezTo>
                  <a:pt x="373" y="54"/>
                  <a:pt x="353" y="61"/>
                  <a:pt x="324" y="47"/>
                </a:cubicBezTo>
                <a:cubicBezTo>
                  <a:pt x="231" y="0"/>
                  <a:pt x="342" y="41"/>
                  <a:pt x="252" y="11"/>
                </a:cubicBezTo>
                <a:cubicBezTo>
                  <a:pt x="220" y="15"/>
                  <a:pt x="185" y="10"/>
                  <a:pt x="156" y="23"/>
                </a:cubicBezTo>
                <a:cubicBezTo>
                  <a:pt x="125" y="37"/>
                  <a:pt x="115" y="96"/>
                  <a:pt x="96" y="119"/>
                </a:cubicBezTo>
                <a:cubicBezTo>
                  <a:pt x="87" y="130"/>
                  <a:pt x="72" y="135"/>
                  <a:pt x="60" y="143"/>
                </a:cubicBezTo>
                <a:cubicBezTo>
                  <a:pt x="36" y="190"/>
                  <a:pt x="13" y="224"/>
                  <a:pt x="0" y="275"/>
                </a:cubicBezTo>
                <a:cubicBezTo>
                  <a:pt x="6" y="325"/>
                  <a:pt x="1" y="414"/>
                  <a:pt x="60" y="443"/>
                </a:cubicBezTo>
                <a:cubicBezTo>
                  <a:pt x="78" y="452"/>
                  <a:pt x="100" y="451"/>
                  <a:pt x="120" y="455"/>
                </a:cubicBezTo>
                <a:cubicBezTo>
                  <a:pt x="148" y="453"/>
                  <a:pt x="271" y="460"/>
                  <a:pt x="312" y="419"/>
                </a:cubicBezTo>
                <a:cubicBezTo>
                  <a:pt x="332" y="399"/>
                  <a:pt x="360" y="347"/>
                  <a:pt x="360" y="347"/>
                </a:cubicBezTo>
                <a:cubicBezTo>
                  <a:pt x="364" y="326"/>
                  <a:pt x="368" y="266"/>
                  <a:pt x="396" y="251"/>
                </a:cubicBezTo>
                <a:cubicBezTo>
                  <a:pt x="479" y="205"/>
                  <a:pt x="573" y="225"/>
                  <a:pt x="660" y="167"/>
                </a:cubicBezTo>
                <a:cubicBezTo>
                  <a:pt x="643" y="217"/>
                  <a:pt x="660" y="276"/>
                  <a:pt x="636" y="323"/>
                </a:cubicBezTo>
                <a:cubicBezTo>
                  <a:pt x="627" y="341"/>
                  <a:pt x="568" y="369"/>
                  <a:pt x="540" y="383"/>
                </a:cubicBezTo>
              </a:path>
            </a:pathLst>
          </a:custGeom>
          <a:noFill/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52560" y="1352520"/>
            <a:ext cx="51444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448400" y="628560"/>
            <a:ext cx="1028880" cy="1047960"/>
          </a:xfrm>
          <a:prstGeom prst="ellipse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371600" y="1504800"/>
            <a:ext cx="62856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6858000" y="1600200"/>
            <a:ext cx="533520" cy="20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962000" y="2038320"/>
            <a:ext cx="51444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81760" y="2019240"/>
            <a:ext cx="177156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571840" y="2171880"/>
            <a:ext cx="780840" cy="36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5486400" y="2190600"/>
            <a:ext cx="914400" cy="400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3924360" y="2038320"/>
            <a:ext cx="1162080" cy="1095480"/>
            <a:chOff x="3924360" y="2038320"/>
            <a:chExt cx="1162080" cy="1095480"/>
          </a:xfrm>
        </p:grpSpPr>
        <p:sp>
          <p:nvSpPr>
            <p:cNvPr id="900" name=""/>
            <p:cNvSpPr/>
            <p:nvPr/>
          </p:nvSpPr>
          <p:spPr>
            <a:xfrm>
              <a:off x="3924360" y="2057400"/>
              <a:ext cx="1162080" cy="107640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29280" y="2038320"/>
              <a:ext cx="552240" cy="152280"/>
            </a:xfrm>
            <a:custGeom>
              <a:avLst/>
              <a:gdLst/>
              <a:ahLst/>
              <a:rect l="l" t="t" r="r" b="b"/>
              <a:pathLst>
                <a:path w="348" h="96">
                  <a:moveTo>
                    <a:pt x="0" y="48"/>
                  </a:moveTo>
                  <a:cubicBezTo>
                    <a:pt x="54" y="34"/>
                    <a:pt x="88" y="11"/>
                    <a:pt x="144" y="0"/>
                  </a:cubicBezTo>
                  <a:cubicBezTo>
                    <a:pt x="172" y="4"/>
                    <a:pt x="200" y="6"/>
                    <a:pt x="228" y="12"/>
                  </a:cubicBezTo>
                  <a:cubicBezTo>
                    <a:pt x="253" y="18"/>
                    <a:pt x="300" y="36"/>
                    <a:pt x="300" y="36"/>
                  </a:cubicBezTo>
                  <a:cubicBezTo>
                    <a:pt x="342" y="78"/>
                    <a:pt x="328" y="57"/>
                    <a:pt x="348" y="96"/>
                  </a:cubicBezTo>
                </a:path>
              </a:pathLst>
            </a:custGeom>
            <a:noFill/>
            <a:ln w="7632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4457880" y="3381480"/>
            <a:ext cx="0" cy="46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2076480" y="502920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267600" y="499104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53760" y="4632480"/>
            <a:ext cx="13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ep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el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792480" y="459432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rodu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ella prote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00440" y="4276800"/>
            <a:ext cx="3200400" cy="1514520"/>
            <a:chOff x="2800440" y="4276800"/>
            <a:chExt cx="3200400" cy="1514520"/>
          </a:xfrm>
        </p:grpSpPr>
        <p:sp>
          <p:nvSpPr>
            <p:cNvPr id="908" name=""/>
            <p:cNvSpPr/>
            <p:nvPr/>
          </p:nvSpPr>
          <p:spPr>
            <a:xfrm>
              <a:off x="2800440" y="4276800"/>
              <a:ext cx="3200400" cy="1514520"/>
            </a:xfrm>
            <a:prstGeom prst="ellipse">
              <a:avLst/>
            </a:prstGeom>
            <a:solidFill>
              <a:srgbClr val="006600"/>
            </a:soli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05600" y="4434120"/>
              <a:ext cx="895320" cy="1023840"/>
            </a:xfrm>
            <a:custGeom>
              <a:avLst/>
              <a:gdLst/>
              <a:ahLst/>
              <a:rect l="l" t="t" r="r" b="b"/>
              <a:pathLst>
                <a:path w="564" h="645">
                  <a:moveTo>
                    <a:pt x="144" y="123"/>
                  </a:moveTo>
                  <a:cubicBezTo>
                    <a:pt x="128" y="131"/>
                    <a:pt x="109" y="134"/>
                    <a:pt x="96" y="147"/>
                  </a:cubicBezTo>
                  <a:cubicBezTo>
                    <a:pt x="83" y="160"/>
                    <a:pt x="77" y="206"/>
                    <a:pt x="96" y="219"/>
                  </a:cubicBezTo>
                  <a:cubicBezTo>
                    <a:pt x="117" y="234"/>
                    <a:pt x="168" y="243"/>
                    <a:pt x="168" y="243"/>
                  </a:cubicBezTo>
                  <a:cubicBezTo>
                    <a:pt x="243" y="355"/>
                    <a:pt x="71" y="322"/>
                    <a:pt x="0" y="327"/>
                  </a:cubicBezTo>
                  <a:cubicBezTo>
                    <a:pt x="0" y="329"/>
                    <a:pt x="16" y="534"/>
                    <a:pt x="48" y="579"/>
                  </a:cubicBezTo>
                  <a:cubicBezTo>
                    <a:pt x="55" y="589"/>
                    <a:pt x="72" y="587"/>
                    <a:pt x="84" y="591"/>
                  </a:cubicBezTo>
                  <a:cubicBezTo>
                    <a:pt x="128" y="587"/>
                    <a:pt x="175" y="595"/>
                    <a:pt x="216" y="579"/>
                  </a:cubicBezTo>
                  <a:cubicBezTo>
                    <a:pt x="308" y="544"/>
                    <a:pt x="180" y="523"/>
                    <a:pt x="252" y="483"/>
                  </a:cubicBezTo>
                  <a:cubicBezTo>
                    <a:pt x="280" y="467"/>
                    <a:pt x="316" y="475"/>
                    <a:pt x="348" y="471"/>
                  </a:cubicBezTo>
                  <a:cubicBezTo>
                    <a:pt x="368" y="393"/>
                    <a:pt x="387" y="337"/>
                    <a:pt x="348" y="243"/>
                  </a:cubicBezTo>
                  <a:cubicBezTo>
                    <a:pt x="338" y="220"/>
                    <a:pt x="300" y="227"/>
                    <a:pt x="276" y="219"/>
                  </a:cubicBezTo>
                  <a:cubicBezTo>
                    <a:pt x="256" y="199"/>
                    <a:pt x="209" y="172"/>
                    <a:pt x="252" y="135"/>
                  </a:cubicBezTo>
                  <a:cubicBezTo>
                    <a:pt x="271" y="119"/>
                    <a:pt x="324" y="111"/>
                    <a:pt x="324" y="111"/>
                  </a:cubicBezTo>
                  <a:cubicBezTo>
                    <a:pt x="352" y="115"/>
                    <a:pt x="382" y="112"/>
                    <a:pt x="408" y="123"/>
                  </a:cubicBezTo>
                  <a:cubicBezTo>
                    <a:pt x="463" y="148"/>
                    <a:pt x="431" y="239"/>
                    <a:pt x="384" y="255"/>
                  </a:cubicBezTo>
                  <a:cubicBezTo>
                    <a:pt x="279" y="290"/>
                    <a:pt x="114" y="287"/>
                    <a:pt x="24" y="291"/>
                  </a:cubicBezTo>
                  <a:cubicBezTo>
                    <a:pt x="32" y="335"/>
                    <a:pt x="23" y="386"/>
                    <a:pt x="48" y="423"/>
                  </a:cubicBezTo>
                  <a:cubicBezTo>
                    <a:pt x="61" y="443"/>
                    <a:pt x="96" y="435"/>
                    <a:pt x="120" y="435"/>
                  </a:cubicBezTo>
                  <a:cubicBezTo>
                    <a:pt x="168" y="435"/>
                    <a:pt x="216" y="427"/>
                    <a:pt x="264" y="423"/>
                  </a:cubicBezTo>
                  <a:cubicBezTo>
                    <a:pt x="280" y="419"/>
                    <a:pt x="296" y="409"/>
                    <a:pt x="312" y="411"/>
                  </a:cubicBezTo>
                  <a:cubicBezTo>
                    <a:pt x="326" y="413"/>
                    <a:pt x="335" y="429"/>
                    <a:pt x="348" y="435"/>
                  </a:cubicBezTo>
                  <a:cubicBezTo>
                    <a:pt x="359" y="441"/>
                    <a:pt x="372" y="443"/>
                    <a:pt x="384" y="447"/>
                  </a:cubicBezTo>
                  <a:cubicBezTo>
                    <a:pt x="400" y="443"/>
                    <a:pt x="427" y="451"/>
                    <a:pt x="432" y="435"/>
                  </a:cubicBezTo>
                  <a:cubicBezTo>
                    <a:pt x="442" y="400"/>
                    <a:pt x="424" y="363"/>
                    <a:pt x="420" y="327"/>
                  </a:cubicBezTo>
                  <a:cubicBezTo>
                    <a:pt x="410" y="236"/>
                    <a:pt x="434" y="40"/>
                    <a:pt x="324" y="3"/>
                  </a:cubicBezTo>
                  <a:cubicBezTo>
                    <a:pt x="264" y="7"/>
                    <a:pt x="202" y="0"/>
                    <a:pt x="144" y="15"/>
                  </a:cubicBezTo>
                  <a:cubicBezTo>
                    <a:pt x="132" y="18"/>
                    <a:pt x="123" y="42"/>
                    <a:pt x="132" y="51"/>
                  </a:cubicBezTo>
                  <a:cubicBezTo>
                    <a:pt x="166" y="85"/>
                    <a:pt x="311" y="104"/>
                    <a:pt x="372" y="135"/>
                  </a:cubicBezTo>
                  <a:cubicBezTo>
                    <a:pt x="384" y="175"/>
                    <a:pt x="388" y="219"/>
                    <a:pt x="408" y="255"/>
                  </a:cubicBezTo>
                  <a:cubicBezTo>
                    <a:pt x="425" y="285"/>
                    <a:pt x="480" y="327"/>
                    <a:pt x="480" y="327"/>
                  </a:cubicBezTo>
                  <a:cubicBezTo>
                    <a:pt x="488" y="367"/>
                    <a:pt x="536" y="595"/>
                    <a:pt x="528" y="615"/>
                  </a:cubicBezTo>
                  <a:cubicBezTo>
                    <a:pt x="516" y="645"/>
                    <a:pt x="464" y="623"/>
                    <a:pt x="432" y="627"/>
                  </a:cubicBezTo>
                  <a:cubicBezTo>
                    <a:pt x="408" y="623"/>
                    <a:pt x="384" y="620"/>
                    <a:pt x="360" y="615"/>
                  </a:cubicBezTo>
                  <a:cubicBezTo>
                    <a:pt x="348" y="612"/>
                    <a:pt x="321" y="615"/>
                    <a:pt x="324" y="603"/>
                  </a:cubicBezTo>
                  <a:cubicBezTo>
                    <a:pt x="331" y="577"/>
                    <a:pt x="422" y="546"/>
                    <a:pt x="444" y="531"/>
                  </a:cubicBezTo>
                  <a:cubicBezTo>
                    <a:pt x="446" y="518"/>
                    <a:pt x="456" y="381"/>
                    <a:pt x="480" y="363"/>
                  </a:cubicBezTo>
                  <a:cubicBezTo>
                    <a:pt x="527" y="328"/>
                    <a:pt x="546" y="310"/>
                    <a:pt x="564" y="255"/>
                  </a:cubicBezTo>
                  <a:cubicBezTo>
                    <a:pt x="560" y="243"/>
                    <a:pt x="561" y="228"/>
                    <a:pt x="552" y="219"/>
                  </a:cubicBezTo>
                  <a:cubicBezTo>
                    <a:pt x="533" y="200"/>
                    <a:pt x="458" y="195"/>
                    <a:pt x="432" y="19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333600" y="4629240"/>
            <a:ext cx="648000" cy="656640"/>
            <a:chOff x="3333600" y="4629240"/>
            <a:chExt cx="648000" cy="656640"/>
          </a:xfrm>
        </p:grpSpPr>
        <p:sp>
          <p:nvSpPr>
            <p:cNvPr id="911" name=""/>
            <p:cNvSpPr/>
            <p:nvPr/>
          </p:nvSpPr>
          <p:spPr>
            <a:xfrm>
              <a:off x="3333600" y="4647960"/>
              <a:ext cx="648000" cy="63792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5320" y="4629240"/>
              <a:ext cx="307800" cy="90000"/>
            </a:xfrm>
            <a:custGeom>
              <a:avLst/>
              <a:gdLst/>
              <a:ahLst/>
              <a:rect l="l" t="t" r="r" b="b"/>
              <a:pathLst>
                <a:path w="348" h="96">
                  <a:moveTo>
                    <a:pt x="0" y="48"/>
                  </a:moveTo>
                  <a:cubicBezTo>
                    <a:pt x="54" y="34"/>
                    <a:pt x="88" y="11"/>
                    <a:pt x="144" y="0"/>
                  </a:cubicBezTo>
                  <a:cubicBezTo>
                    <a:pt x="172" y="4"/>
                    <a:pt x="200" y="6"/>
                    <a:pt x="228" y="12"/>
                  </a:cubicBezTo>
                  <a:cubicBezTo>
                    <a:pt x="253" y="18"/>
                    <a:pt x="300" y="36"/>
                    <a:pt x="300" y="36"/>
                  </a:cubicBezTo>
                  <a:cubicBezTo>
                    <a:pt x="342" y="78"/>
                    <a:pt x="328" y="57"/>
                    <a:pt x="348" y="96"/>
                  </a:cubicBezTo>
                </a:path>
              </a:pathLst>
            </a:custGeom>
            <a:noFill/>
            <a:ln w="7632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80880" y="4413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81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27080" y="479520"/>
            <a:ext cx="512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Produzione biotecnolo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954080" y="1298520"/>
            <a:ext cx="512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yog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farmaci di vecchia gen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78600" y="239400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farmaci di nuova gen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26280" y="270360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composti per la diagno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927600" y="30384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vacc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489120" y="335916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amminoac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94040" y="36669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color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6120" y="39654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re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38920" y="53532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294560" y="4289400"/>
            <a:ext cx="66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OGM per la bio-degradazione di sostanze toss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35720" y="465120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insettic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432600" y="49752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imes New Roman"/>
              </a:rPr>
              <a:t>nanotec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3452040" y="2514600"/>
            <a:ext cx="239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ush Script MT"/>
              </a:rPr>
              <a:t>FI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4413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46760" y="3027240"/>
            <a:ext cx="11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ffff"/>
                </a:solidFill>
                <a:latin typeface="Times New Roman"/>
              </a:rPr>
              <a:t>B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52600" y="312120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ffff"/>
                </a:solidFill>
                <a:latin typeface="Times New Roman"/>
              </a:rPr>
              <a:t>-CHI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68000" y="1963800"/>
            <a:ext cx="32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66"/>
                </a:solidFill>
                <a:latin typeface="Times New Roman"/>
              </a:rPr>
              <a:t>BIO-INGEGN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0480" y="405612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cc"/>
                </a:solidFill>
                <a:latin typeface="Times New Roman"/>
              </a:rPr>
              <a:t>BIO-REAT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11560" y="533088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Times New Roman"/>
              </a:rPr>
              <a:t>BIO-INFORMA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57960" y="175104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cc"/>
                </a:solidFill>
                <a:latin typeface="Times New Roman"/>
              </a:rPr>
              <a:t>BIO-MEDIC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17680" y="4492800"/>
            <a:ext cx="33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BIO-TECN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87360" y="80316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BIO-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4413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b0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3080" y="1062000"/>
          <a:ext cx="3019680" cy="461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3080" y="1062000"/>
                    <a:ext cx="30196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4413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55560" y="4549680"/>
            <a:ext cx="42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ff33"/>
                </a:solidFill>
                <a:latin typeface="Times New Roman"/>
              </a:rPr>
              <a:t>Macromolecola digi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3240" y="258768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99"/>
                </a:solidFill>
                <a:latin typeface="Times New Roman"/>
              </a:rPr>
              <a:t>Codifica di prote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54000" y="94788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Sistema di replic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4413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616720" y="2184480"/>
            <a:ext cx="412200" cy="1188360"/>
            <a:chOff x="5616720" y="2184480"/>
            <a:chExt cx="412200" cy="1188360"/>
          </a:xfrm>
        </p:grpSpPr>
        <p:sp>
          <p:nvSpPr>
            <p:cNvPr id="73" name=""/>
            <p:cNvSpPr/>
            <p:nvPr/>
          </p:nvSpPr>
          <p:spPr>
            <a:xfrm flipV="1" rot="5400000">
              <a:off x="5465880" y="287388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16720" y="218448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04280" y="2565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28600" y="2759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71520" y="2197080"/>
            <a:ext cx="418320" cy="1174680"/>
            <a:chOff x="4871520" y="2197080"/>
            <a:chExt cx="418320" cy="1174680"/>
          </a:xfrm>
        </p:grpSpPr>
        <p:sp>
          <p:nvSpPr>
            <p:cNvPr id="78" name=""/>
            <p:cNvSpPr/>
            <p:nvPr/>
          </p:nvSpPr>
          <p:spPr>
            <a:xfrm>
              <a:off x="4881600" y="219708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68800" y="2577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4747320" y="2869200"/>
              <a:ext cx="663840" cy="34128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1520" y="28000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595840" y="3394800"/>
            <a:ext cx="421200" cy="1134000"/>
            <a:chOff x="5595840" y="3394800"/>
            <a:chExt cx="421200" cy="1134000"/>
          </a:xfrm>
        </p:grpSpPr>
        <p:sp>
          <p:nvSpPr>
            <p:cNvPr id="83" name=""/>
            <p:cNvSpPr/>
            <p:nvPr/>
          </p:nvSpPr>
          <p:spPr>
            <a:xfrm flipV="1" rot="5400000">
              <a:off x="5456880" y="3555360"/>
              <a:ext cx="663480" cy="3412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595840" y="41472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783040" y="399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98720" y="3524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04280" y="3355560"/>
            <a:ext cx="400320" cy="1170000"/>
            <a:chOff x="4904280" y="3355560"/>
            <a:chExt cx="400320" cy="1170000"/>
          </a:xfrm>
        </p:grpSpPr>
        <p:sp>
          <p:nvSpPr>
            <p:cNvPr id="88" name=""/>
            <p:cNvSpPr/>
            <p:nvPr/>
          </p:nvSpPr>
          <p:spPr>
            <a:xfrm rot="16200000">
              <a:off x="4757400" y="351252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06800" y="414396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094000" y="3992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04280" y="3535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048200" y="2203560"/>
            <a:ext cx="388800" cy="1113840"/>
            <a:chOff x="4048200" y="2203560"/>
            <a:chExt cx="388800" cy="1113840"/>
          </a:xfrm>
        </p:grpSpPr>
        <p:sp>
          <p:nvSpPr>
            <p:cNvPr id="93" name=""/>
            <p:cNvSpPr/>
            <p:nvPr/>
          </p:nvSpPr>
          <p:spPr>
            <a:xfrm>
              <a:off x="4056120" y="22035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43320" y="258444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3938760" y="2837880"/>
              <a:ext cx="58860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53240" y="2744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81400" y="3404880"/>
            <a:ext cx="401040" cy="1113840"/>
            <a:chOff x="3281400" y="3404880"/>
            <a:chExt cx="401040" cy="1113840"/>
          </a:xfrm>
        </p:grpSpPr>
        <p:sp>
          <p:nvSpPr>
            <p:cNvPr id="98" name=""/>
            <p:cNvSpPr/>
            <p:nvPr/>
          </p:nvSpPr>
          <p:spPr>
            <a:xfrm flipV="1">
              <a:off x="3281400" y="4137840"/>
              <a:ext cx="381240" cy="380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468960" y="3985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 rot="16200000">
              <a:off x="3176640" y="3513960"/>
              <a:ext cx="58860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99040" y="3522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275640" y="2209680"/>
            <a:ext cx="400320" cy="1171440"/>
            <a:chOff x="3275640" y="2209680"/>
            <a:chExt cx="400320" cy="1171440"/>
          </a:xfrm>
        </p:grpSpPr>
        <p:sp>
          <p:nvSpPr>
            <p:cNvPr id="103" name=""/>
            <p:cNvSpPr/>
            <p:nvPr/>
          </p:nvSpPr>
          <p:spPr>
            <a:xfrm>
              <a:off x="3276360" y="2209680"/>
              <a:ext cx="38052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63560" y="25905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87520" y="2725560"/>
              <a:ext cx="35820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75640" y="274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025880" y="3341160"/>
            <a:ext cx="423360" cy="1190880"/>
            <a:chOff x="4025880" y="3341160"/>
            <a:chExt cx="423360" cy="1190880"/>
          </a:xfrm>
        </p:grpSpPr>
        <p:sp>
          <p:nvSpPr>
            <p:cNvPr id="108" name=""/>
            <p:cNvSpPr/>
            <p:nvPr/>
          </p:nvSpPr>
          <p:spPr>
            <a:xfrm flipV="1">
              <a:off x="4025880" y="415116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213440" y="3998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052880" y="334080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48920" y="3504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4413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24040" y="666720"/>
          <a:ext cx="5695920" cy="552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24040" y="666720"/>
                    <a:ext cx="569592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4413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44680" y="2287440"/>
            <a:ext cx="412200" cy="1188360"/>
            <a:chOff x="1444680" y="2287440"/>
            <a:chExt cx="412200" cy="1188360"/>
          </a:xfrm>
        </p:grpSpPr>
        <p:sp>
          <p:nvSpPr>
            <p:cNvPr id="117" name=""/>
            <p:cNvSpPr/>
            <p:nvPr/>
          </p:nvSpPr>
          <p:spPr>
            <a:xfrm flipV="1" rot="5400000">
              <a:off x="1293840" y="297684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4680" y="228744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32240" y="266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56560" y="2862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920160" y="2300400"/>
            <a:ext cx="418320" cy="1174680"/>
            <a:chOff x="920160" y="2300400"/>
            <a:chExt cx="418320" cy="1174680"/>
          </a:xfrm>
        </p:grpSpPr>
        <p:sp>
          <p:nvSpPr>
            <p:cNvPr id="122" name=""/>
            <p:cNvSpPr/>
            <p:nvPr/>
          </p:nvSpPr>
          <p:spPr>
            <a:xfrm>
              <a:off x="930240" y="230040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17440" y="26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795960" y="2972520"/>
              <a:ext cx="663840" cy="34128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20160" y="2903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957320" y="2286000"/>
            <a:ext cx="388800" cy="1114560"/>
            <a:chOff x="1957320" y="2286000"/>
            <a:chExt cx="388800" cy="1114560"/>
          </a:xfrm>
        </p:grpSpPr>
        <p:sp>
          <p:nvSpPr>
            <p:cNvPr id="127" name=""/>
            <p:cNvSpPr/>
            <p:nvPr/>
          </p:nvSpPr>
          <p:spPr>
            <a:xfrm>
              <a:off x="1965240" y="22860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52440" y="2667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1847880" y="2921040"/>
              <a:ext cx="58896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62360" y="2827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975400" y="2295360"/>
            <a:ext cx="400320" cy="1171440"/>
            <a:chOff x="2975400" y="2295360"/>
            <a:chExt cx="400320" cy="1171440"/>
          </a:xfrm>
        </p:grpSpPr>
        <p:sp>
          <p:nvSpPr>
            <p:cNvPr id="132" name=""/>
            <p:cNvSpPr/>
            <p:nvPr/>
          </p:nvSpPr>
          <p:spPr>
            <a:xfrm>
              <a:off x="2976480" y="22953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3680" y="26762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87640" y="2811240"/>
              <a:ext cx="35856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75400" y="2830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441680" y="2298600"/>
            <a:ext cx="412200" cy="1188360"/>
            <a:chOff x="4441680" y="2298600"/>
            <a:chExt cx="412200" cy="1188360"/>
          </a:xfrm>
        </p:grpSpPr>
        <p:sp>
          <p:nvSpPr>
            <p:cNvPr id="137" name=""/>
            <p:cNvSpPr/>
            <p:nvPr/>
          </p:nvSpPr>
          <p:spPr>
            <a:xfrm flipV="1" rot="5400000">
              <a:off x="4290840" y="298800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41680" y="22986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29240" y="2679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3560" y="2873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476160" y="2290680"/>
            <a:ext cx="418320" cy="1174680"/>
            <a:chOff x="3476160" y="2290680"/>
            <a:chExt cx="418320" cy="1174680"/>
          </a:xfrm>
        </p:grpSpPr>
        <p:sp>
          <p:nvSpPr>
            <p:cNvPr id="142" name=""/>
            <p:cNvSpPr/>
            <p:nvPr/>
          </p:nvSpPr>
          <p:spPr>
            <a:xfrm>
              <a:off x="3486240" y="229068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73440" y="2671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3351960" y="2962800"/>
              <a:ext cx="663840" cy="34128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76160" y="2893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388200" y="2298600"/>
            <a:ext cx="388800" cy="1114560"/>
            <a:chOff x="6388200" y="2298600"/>
            <a:chExt cx="388800" cy="1114560"/>
          </a:xfrm>
        </p:grpSpPr>
        <p:sp>
          <p:nvSpPr>
            <p:cNvPr id="147" name=""/>
            <p:cNvSpPr/>
            <p:nvPr/>
          </p:nvSpPr>
          <p:spPr>
            <a:xfrm>
              <a:off x="6396120" y="22986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83320" y="2679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6278760" y="2933640"/>
              <a:ext cx="58896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3240" y="2840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472480" y="2287440"/>
            <a:ext cx="400320" cy="1171440"/>
            <a:chOff x="2472480" y="2287440"/>
            <a:chExt cx="400320" cy="1171440"/>
          </a:xfrm>
        </p:grpSpPr>
        <p:sp>
          <p:nvSpPr>
            <p:cNvPr id="152" name=""/>
            <p:cNvSpPr/>
            <p:nvPr/>
          </p:nvSpPr>
          <p:spPr>
            <a:xfrm>
              <a:off x="2473200" y="2287440"/>
              <a:ext cx="38052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60400" y="26683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4360" y="2803320"/>
              <a:ext cx="35820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72480" y="2822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963960" y="2297160"/>
            <a:ext cx="412200" cy="1188360"/>
            <a:chOff x="3963960" y="2297160"/>
            <a:chExt cx="412200" cy="1188360"/>
          </a:xfrm>
        </p:grpSpPr>
        <p:sp>
          <p:nvSpPr>
            <p:cNvPr id="157" name=""/>
            <p:cNvSpPr/>
            <p:nvPr/>
          </p:nvSpPr>
          <p:spPr>
            <a:xfrm flipV="1" rot="5400000">
              <a:off x="3813120" y="298656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63960" y="229716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51520" y="2678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75840" y="287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937040" y="2297160"/>
            <a:ext cx="388800" cy="1113840"/>
            <a:chOff x="4937040" y="2297160"/>
            <a:chExt cx="388800" cy="1113840"/>
          </a:xfrm>
        </p:grpSpPr>
        <p:sp>
          <p:nvSpPr>
            <p:cNvPr id="162" name=""/>
            <p:cNvSpPr/>
            <p:nvPr/>
          </p:nvSpPr>
          <p:spPr>
            <a:xfrm>
              <a:off x="4944960" y="22971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32160" y="267804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827600" y="2931480"/>
              <a:ext cx="58860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42080" y="2838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436000" y="2286000"/>
            <a:ext cx="400320" cy="1171440"/>
            <a:chOff x="5436000" y="2286000"/>
            <a:chExt cx="400320" cy="1171440"/>
          </a:xfrm>
        </p:grpSpPr>
        <p:sp>
          <p:nvSpPr>
            <p:cNvPr id="167" name=""/>
            <p:cNvSpPr/>
            <p:nvPr/>
          </p:nvSpPr>
          <p:spPr>
            <a:xfrm>
              <a:off x="5437080" y="228600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24280" y="2666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48240" y="2801880"/>
              <a:ext cx="35856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36000" y="2820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444680" y="3440880"/>
            <a:ext cx="421200" cy="1134000"/>
            <a:chOff x="1444680" y="3440880"/>
            <a:chExt cx="421200" cy="1134000"/>
          </a:xfrm>
        </p:grpSpPr>
        <p:sp>
          <p:nvSpPr>
            <p:cNvPr id="172" name=""/>
            <p:cNvSpPr/>
            <p:nvPr/>
          </p:nvSpPr>
          <p:spPr>
            <a:xfrm flipV="1" rot="5400000">
              <a:off x="1305720" y="3601440"/>
              <a:ext cx="663480" cy="3412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444680" y="419328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631880" y="4041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47560" y="357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940320" y="3401640"/>
            <a:ext cx="400320" cy="1170000"/>
            <a:chOff x="940320" y="3401640"/>
            <a:chExt cx="400320" cy="1170000"/>
          </a:xfrm>
        </p:grpSpPr>
        <p:sp>
          <p:nvSpPr>
            <p:cNvPr id="177" name=""/>
            <p:cNvSpPr/>
            <p:nvPr/>
          </p:nvSpPr>
          <p:spPr>
            <a:xfrm rot="16200000">
              <a:off x="793440" y="355860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42840" y="419004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130040" y="4038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40320" y="358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990880" y="3471840"/>
            <a:ext cx="401040" cy="1114560"/>
            <a:chOff x="2990880" y="3471840"/>
            <a:chExt cx="401040" cy="1114560"/>
          </a:xfrm>
        </p:grpSpPr>
        <p:sp>
          <p:nvSpPr>
            <p:cNvPr id="182" name=""/>
            <p:cNvSpPr/>
            <p:nvPr/>
          </p:nvSpPr>
          <p:spPr>
            <a:xfrm flipV="1">
              <a:off x="2990880" y="420552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178440" y="40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16200000">
              <a:off x="2885760" y="3581280"/>
              <a:ext cx="58896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08520" y="3589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957320" y="3387240"/>
            <a:ext cx="423360" cy="1190880"/>
            <a:chOff x="1957320" y="3387240"/>
            <a:chExt cx="423360" cy="1190880"/>
          </a:xfrm>
        </p:grpSpPr>
        <p:sp>
          <p:nvSpPr>
            <p:cNvPr id="187" name=""/>
            <p:cNvSpPr/>
            <p:nvPr/>
          </p:nvSpPr>
          <p:spPr>
            <a:xfrm flipV="1">
              <a:off x="1957320" y="41972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44880" y="4044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984320" y="338688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0360" y="3551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963960" y="3452040"/>
            <a:ext cx="421200" cy="1134000"/>
            <a:chOff x="3963960" y="3452040"/>
            <a:chExt cx="421200" cy="1134000"/>
          </a:xfrm>
        </p:grpSpPr>
        <p:sp>
          <p:nvSpPr>
            <p:cNvPr id="192" name=""/>
            <p:cNvSpPr/>
            <p:nvPr/>
          </p:nvSpPr>
          <p:spPr>
            <a:xfrm flipV="1" rot="5400000">
              <a:off x="3825000" y="3612600"/>
              <a:ext cx="663480" cy="3412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963960" y="420444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151160" y="4052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66840" y="3581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497760" y="3414240"/>
            <a:ext cx="400320" cy="1170000"/>
            <a:chOff x="3497760" y="3414240"/>
            <a:chExt cx="400320" cy="1170000"/>
          </a:xfrm>
        </p:grpSpPr>
        <p:sp>
          <p:nvSpPr>
            <p:cNvPr id="197" name=""/>
            <p:cNvSpPr/>
            <p:nvPr/>
          </p:nvSpPr>
          <p:spPr>
            <a:xfrm rot="16200000">
              <a:off x="3350880" y="357120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500280" y="420264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687480" y="4050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97760" y="3593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33840" y="3463920"/>
            <a:ext cx="401040" cy="1114560"/>
            <a:chOff x="5433840" y="3463920"/>
            <a:chExt cx="401040" cy="1114560"/>
          </a:xfrm>
        </p:grpSpPr>
        <p:sp>
          <p:nvSpPr>
            <p:cNvPr id="202" name=""/>
            <p:cNvSpPr/>
            <p:nvPr/>
          </p:nvSpPr>
          <p:spPr>
            <a:xfrm flipV="1">
              <a:off x="5433840" y="419760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621400" y="404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16200000">
              <a:off x="5328720" y="3573360"/>
              <a:ext cx="58896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51480" y="3581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383160" y="3379320"/>
            <a:ext cx="423360" cy="1190880"/>
            <a:chOff x="6383160" y="3379320"/>
            <a:chExt cx="423360" cy="1190880"/>
          </a:xfrm>
        </p:grpSpPr>
        <p:sp>
          <p:nvSpPr>
            <p:cNvPr id="207" name=""/>
            <p:cNvSpPr/>
            <p:nvPr/>
          </p:nvSpPr>
          <p:spPr>
            <a:xfrm flipV="1">
              <a:off x="6383160" y="418932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570720" y="4036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410160" y="337896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06200" y="3543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441680" y="3452040"/>
            <a:ext cx="421200" cy="1134000"/>
            <a:chOff x="4441680" y="3452040"/>
            <a:chExt cx="421200" cy="1134000"/>
          </a:xfrm>
        </p:grpSpPr>
        <p:sp>
          <p:nvSpPr>
            <p:cNvPr id="212" name=""/>
            <p:cNvSpPr/>
            <p:nvPr/>
          </p:nvSpPr>
          <p:spPr>
            <a:xfrm flipV="1" rot="5400000">
              <a:off x="4302720" y="3612600"/>
              <a:ext cx="663480" cy="3412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441680" y="420444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628880" y="4052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4560" y="3581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470320" y="3466800"/>
            <a:ext cx="401040" cy="1113840"/>
            <a:chOff x="2470320" y="3466800"/>
            <a:chExt cx="401040" cy="1113840"/>
          </a:xfrm>
        </p:grpSpPr>
        <p:sp>
          <p:nvSpPr>
            <p:cNvPr id="217" name=""/>
            <p:cNvSpPr/>
            <p:nvPr/>
          </p:nvSpPr>
          <p:spPr>
            <a:xfrm flipV="1">
              <a:off x="2470320" y="4199760"/>
              <a:ext cx="381240" cy="380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657880" y="4047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16200000">
              <a:off x="2365560" y="3575880"/>
              <a:ext cx="58860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87960" y="3584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933800" y="3377880"/>
            <a:ext cx="423360" cy="1190880"/>
            <a:chOff x="4933800" y="3377880"/>
            <a:chExt cx="423360" cy="1190880"/>
          </a:xfrm>
        </p:grpSpPr>
        <p:sp>
          <p:nvSpPr>
            <p:cNvPr id="222" name=""/>
            <p:cNvSpPr/>
            <p:nvPr/>
          </p:nvSpPr>
          <p:spPr>
            <a:xfrm flipV="1">
              <a:off x="4933800" y="418788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121360" y="4035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960800" y="337752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56840" y="3541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913360" y="2279520"/>
            <a:ext cx="412200" cy="1188360"/>
            <a:chOff x="5913360" y="2279520"/>
            <a:chExt cx="412200" cy="1188360"/>
          </a:xfrm>
        </p:grpSpPr>
        <p:sp>
          <p:nvSpPr>
            <p:cNvPr id="227" name=""/>
            <p:cNvSpPr/>
            <p:nvPr/>
          </p:nvSpPr>
          <p:spPr>
            <a:xfrm flipV="1" rot="5400000">
              <a:off x="5762520" y="296892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13360" y="227952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00920" y="2660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25240" y="2854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907240" y="3448080"/>
            <a:ext cx="421200" cy="1132920"/>
            <a:chOff x="5907240" y="3448080"/>
            <a:chExt cx="421200" cy="1132920"/>
          </a:xfrm>
        </p:grpSpPr>
        <p:sp>
          <p:nvSpPr>
            <p:cNvPr id="232" name=""/>
            <p:cNvSpPr/>
            <p:nvPr/>
          </p:nvSpPr>
          <p:spPr>
            <a:xfrm flipV="1" rot="5400000">
              <a:off x="5768640" y="360900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907240" y="42001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094440" y="404784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10120" y="35762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4413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63760" y="1650960"/>
            <a:ext cx="412200" cy="1188360"/>
            <a:chOff x="1463760" y="1650960"/>
            <a:chExt cx="412200" cy="1188360"/>
          </a:xfrm>
        </p:grpSpPr>
        <p:sp>
          <p:nvSpPr>
            <p:cNvPr id="238" name=""/>
            <p:cNvSpPr/>
            <p:nvPr/>
          </p:nvSpPr>
          <p:spPr>
            <a:xfrm flipV="1" rot="5400000">
              <a:off x="1312920" y="234036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63760" y="165096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51320" y="2032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75640" y="2225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39240" y="1663560"/>
            <a:ext cx="418320" cy="1174680"/>
            <a:chOff x="939240" y="1663560"/>
            <a:chExt cx="418320" cy="1174680"/>
          </a:xfrm>
        </p:grpSpPr>
        <p:sp>
          <p:nvSpPr>
            <p:cNvPr id="243" name=""/>
            <p:cNvSpPr/>
            <p:nvPr/>
          </p:nvSpPr>
          <p:spPr>
            <a:xfrm>
              <a:off x="949320" y="16635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36520" y="2044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200000">
              <a:off x="815040" y="2335680"/>
              <a:ext cx="663840" cy="34128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39240" y="22665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976400" y="1649520"/>
            <a:ext cx="388800" cy="1113840"/>
            <a:chOff x="1976400" y="1649520"/>
            <a:chExt cx="388800" cy="1113840"/>
          </a:xfrm>
        </p:grpSpPr>
        <p:sp>
          <p:nvSpPr>
            <p:cNvPr id="248" name=""/>
            <p:cNvSpPr/>
            <p:nvPr/>
          </p:nvSpPr>
          <p:spPr>
            <a:xfrm>
              <a:off x="1984320" y="1649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71520" y="20304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1866960" y="2283840"/>
              <a:ext cx="58860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81440" y="2190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94480" y="1658880"/>
            <a:ext cx="400320" cy="1171440"/>
            <a:chOff x="2994480" y="1658880"/>
            <a:chExt cx="400320" cy="1171440"/>
          </a:xfrm>
        </p:grpSpPr>
        <p:sp>
          <p:nvSpPr>
            <p:cNvPr id="253" name=""/>
            <p:cNvSpPr/>
            <p:nvPr/>
          </p:nvSpPr>
          <p:spPr>
            <a:xfrm>
              <a:off x="2995560" y="165888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82760" y="2039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06720" y="2174760"/>
              <a:ext cx="35856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94480" y="2193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460760" y="1662120"/>
            <a:ext cx="412200" cy="1188360"/>
            <a:chOff x="4460760" y="1662120"/>
            <a:chExt cx="412200" cy="1188360"/>
          </a:xfrm>
        </p:grpSpPr>
        <p:sp>
          <p:nvSpPr>
            <p:cNvPr id="258" name=""/>
            <p:cNvSpPr/>
            <p:nvPr/>
          </p:nvSpPr>
          <p:spPr>
            <a:xfrm flipV="1" rot="5400000">
              <a:off x="4309920" y="235152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60760" y="166212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8320" y="2043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72640" y="2237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495240" y="1654200"/>
            <a:ext cx="418320" cy="1174680"/>
            <a:chOff x="3495240" y="1654200"/>
            <a:chExt cx="418320" cy="1174680"/>
          </a:xfrm>
        </p:grpSpPr>
        <p:sp>
          <p:nvSpPr>
            <p:cNvPr id="263" name=""/>
            <p:cNvSpPr/>
            <p:nvPr/>
          </p:nvSpPr>
          <p:spPr>
            <a:xfrm>
              <a:off x="3505320" y="165420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2520" y="2035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6200000">
              <a:off x="3371040" y="2326320"/>
              <a:ext cx="663840" cy="34128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95240" y="2257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406920" y="1662120"/>
            <a:ext cx="388440" cy="1114560"/>
            <a:chOff x="6406920" y="1662120"/>
            <a:chExt cx="388440" cy="1114560"/>
          </a:xfrm>
        </p:grpSpPr>
        <p:sp>
          <p:nvSpPr>
            <p:cNvPr id="268" name=""/>
            <p:cNvSpPr/>
            <p:nvPr/>
          </p:nvSpPr>
          <p:spPr>
            <a:xfrm>
              <a:off x="6414840" y="1662120"/>
              <a:ext cx="38052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02040" y="2043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6297120" y="2297160"/>
              <a:ext cx="58896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11960" y="2203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491200" y="1650960"/>
            <a:ext cx="400320" cy="1171440"/>
            <a:chOff x="2491200" y="1650960"/>
            <a:chExt cx="400320" cy="1171440"/>
          </a:xfrm>
        </p:grpSpPr>
        <p:sp>
          <p:nvSpPr>
            <p:cNvPr id="273" name=""/>
            <p:cNvSpPr/>
            <p:nvPr/>
          </p:nvSpPr>
          <p:spPr>
            <a:xfrm>
              <a:off x="2492280" y="16509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79480" y="2031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03440" y="2166840"/>
              <a:ext cx="35856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91200" y="2185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983040" y="1660680"/>
            <a:ext cx="412200" cy="1188360"/>
            <a:chOff x="3983040" y="1660680"/>
            <a:chExt cx="412200" cy="1188360"/>
          </a:xfrm>
        </p:grpSpPr>
        <p:sp>
          <p:nvSpPr>
            <p:cNvPr id="278" name=""/>
            <p:cNvSpPr/>
            <p:nvPr/>
          </p:nvSpPr>
          <p:spPr>
            <a:xfrm flipV="1" rot="5400000">
              <a:off x="3832560" y="2350800"/>
              <a:ext cx="655200" cy="341280"/>
            </a:xfrm>
            <a:custGeom>
              <a:avLst/>
              <a:gdLst>
                <a:gd name="textAreaLeft" fmla="*/ 0 w 655200"/>
                <a:gd name="textAreaRight" fmla="*/ 655200 w 65520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83040" y="166068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70600" y="20415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94920" y="223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56120" y="1660680"/>
            <a:ext cx="388800" cy="1113840"/>
            <a:chOff x="4956120" y="1660680"/>
            <a:chExt cx="388800" cy="1113840"/>
          </a:xfrm>
        </p:grpSpPr>
        <p:sp>
          <p:nvSpPr>
            <p:cNvPr id="283" name=""/>
            <p:cNvSpPr/>
            <p:nvPr/>
          </p:nvSpPr>
          <p:spPr>
            <a:xfrm>
              <a:off x="4964040" y="166068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51240" y="20415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4846680" y="2295000"/>
              <a:ext cx="58860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61160" y="2201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455080" y="1649520"/>
            <a:ext cx="400320" cy="1171440"/>
            <a:chOff x="5455080" y="1649520"/>
            <a:chExt cx="400320" cy="1171440"/>
          </a:xfrm>
        </p:grpSpPr>
        <p:sp>
          <p:nvSpPr>
            <p:cNvPr id="288" name=""/>
            <p:cNvSpPr/>
            <p:nvPr/>
          </p:nvSpPr>
          <p:spPr>
            <a:xfrm>
              <a:off x="5456160" y="164952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43360" y="2030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67320" y="2165400"/>
              <a:ext cx="35856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55080" y="2184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463760" y="3672000"/>
            <a:ext cx="421200" cy="1132920"/>
            <a:chOff x="1463760" y="3672000"/>
            <a:chExt cx="421200" cy="1132920"/>
          </a:xfrm>
        </p:grpSpPr>
        <p:sp>
          <p:nvSpPr>
            <p:cNvPr id="293" name=""/>
            <p:cNvSpPr/>
            <p:nvPr/>
          </p:nvSpPr>
          <p:spPr>
            <a:xfrm flipV="1" rot="5400000">
              <a:off x="1325160" y="383292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463760" y="44240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1650960" y="42717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66640" y="3800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959400" y="3631680"/>
            <a:ext cx="400320" cy="1170000"/>
            <a:chOff x="959400" y="3631680"/>
            <a:chExt cx="400320" cy="1170000"/>
          </a:xfrm>
        </p:grpSpPr>
        <p:sp>
          <p:nvSpPr>
            <p:cNvPr id="298" name=""/>
            <p:cNvSpPr/>
            <p:nvPr/>
          </p:nvSpPr>
          <p:spPr>
            <a:xfrm rot="16200000">
              <a:off x="812520" y="378864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961920" y="442008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149120" y="4268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59400" y="3811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990880" y="3701880"/>
            <a:ext cx="401040" cy="1114560"/>
            <a:chOff x="2990880" y="3701880"/>
            <a:chExt cx="401040" cy="1114560"/>
          </a:xfrm>
        </p:grpSpPr>
        <p:sp>
          <p:nvSpPr>
            <p:cNvPr id="303" name=""/>
            <p:cNvSpPr/>
            <p:nvPr/>
          </p:nvSpPr>
          <p:spPr>
            <a:xfrm flipV="1">
              <a:off x="2990880" y="443556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178440" y="42829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6200000">
              <a:off x="2885760" y="3811320"/>
              <a:ext cx="58896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08520" y="3819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976400" y="3617640"/>
            <a:ext cx="423360" cy="1190880"/>
            <a:chOff x="1976400" y="3617640"/>
            <a:chExt cx="423360" cy="1190880"/>
          </a:xfrm>
        </p:grpSpPr>
        <p:sp>
          <p:nvSpPr>
            <p:cNvPr id="308" name=""/>
            <p:cNvSpPr/>
            <p:nvPr/>
          </p:nvSpPr>
          <p:spPr>
            <a:xfrm flipV="1">
              <a:off x="1976400" y="44276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163960" y="4275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003400" y="361728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99440" y="3781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983040" y="3683160"/>
            <a:ext cx="421200" cy="1132920"/>
            <a:chOff x="3983040" y="3683160"/>
            <a:chExt cx="421200" cy="1132920"/>
          </a:xfrm>
        </p:grpSpPr>
        <p:sp>
          <p:nvSpPr>
            <p:cNvPr id="313" name=""/>
            <p:cNvSpPr/>
            <p:nvPr/>
          </p:nvSpPr>
          <p:spPr>
            <a:xfrm flipV="1" rot="5400000">
              <a:off x="3844440" y="384408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983040" y="443520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170240" y="42829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5920" y="38113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16840" y="3644640"/>
            <a:ext cx="400320" cy="1170000"/>
            <a:chOff x="3516840" y="3644640"/>
            <a:chExt cx="400320" cy="1170000"/>
          </a:xfrm>
        </p:grpSpPr>
        <p:sp>
          <p:nvSpPr>
            <p:cNvPr id="318" name=""/>
            <p:cNvSpPr/>
            <p:nvPr/>
          </p:nvSpPr>
          <p:spPr>
            <a:xfrm rot="16200000">
              <a:off x="3369960" y="380160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519360" y="443304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706560" y="4281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16840" y="38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52920" y="3693960"/>
            <a:ext cx="401040" cy="1114560"/>
            <a:chOff x="5452920" y="3693960"/>
            <a:chExt cx="401040" cy="1114560"/>
          </a:xfrm>
        </p:grpSpPr>
        <p:sp>
          <p:nvSpPr>
            <p:cNvPr id="323" name=""/>
            <p:cNvSpPr/>
            <p:nvPr/>
          </p:nvSpPr>
          <p:spPr>
            <a:xfrm flipV="1">
              <a:off x="5452920" y="44276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640480" y="42750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 rot="16200000">
              <a:off x="5347800" y="3803400"/>
              <a:ext cx="58896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70560" y="3811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402240" y="3609720"/>
            <a:ext cx="423360" cy="1190880"/>
            <a:chOff x="6402240" y="3609720"/>
            <a:chExt cx="423360" cy="1190880"/>
          </a:xfrm>
        </p:grpSpPr>
        <p:sp>
          <p:nvSpPr>
            <p:cNvPr id="328" name=""/>
            <p:cNvSpPr/>
            <p:nvPr/>
          </p:nvSpPr>
          <p:spPr>
            <a:xfrm flipV="1">
              <a:off x="6402240" y="441972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589800" y="42670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6429240" y="360936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25280" y="3773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460760" y="3683160"/>
            <a:ext cx="421200" cy="1132920"/>
            <a:chOff x="4460760" y="3683160"/>
            <a:chExt cx="421200" cy="1132920"/>
          </a:xfrm>
        </p:grpSpPr>
        <p:sp>
          <p:nvSpPr>
            <p:cNvPr id="333" name=""/>
            <p:cNvSpPr/>
            <p:nvPr/>
          </p:nvSpPr>
          <p:spPr>
            <a:xfrm flipV="1" rot="5400000">
              <a:off x="4322160" y="384408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460760" y="443520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647960" y="42829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63640" y="38113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489040" y="3697200"/>
            <a:ext cx="401040" cy="1114560"/>
            <a:chOff x="2489040" y="3697200"/>
            <a:chExt cx="401040" cy="1114560"/>
          </a:xfrm>
        </p:grpSpPr>
        <p:sp>
          <p:nvSpPr>
            <p:cNvPr id="338" name=""/>
            <p:cNvSpPr/>
            <p:nvPr/>
          </p:nvSpPr>
          <p:spPr>
            <a:xfrm flipV="1">
              <a:off x="2489040" y="443088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676600" y="42782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 rot="16200000">
              <a:off x="2383920" y="3806640"/>
              <a:ext cx="58896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06680" y="3814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952880" y="3607920"/>
            <a:ext cx="423360" cy="1190880"/>
            <a:chOff x="4952880" y="3607920"/>
            <a:chExt cx="423360" cy="1190880"/>
          </a:xfrm>
        </p:grpSpPr>
        <p:sp>
          <p:nvSpPr>
            <p:cNvPr id="343" name=""/>
            <p:cNvSpPr/>
            <p:nvPr/>
          </p:nvSpPr>
          <p:spPr>
            <a:xfrm flipV="1">
              <a:off x="4952880" y="441792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140440" y="4265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979880" y="360756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75920" y="377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932440" y="1643040"/>
            <a:ext cx="412200" cy="1188360"/>
            <a:chOff x="5932440" y="1643040"/>
            <a:chExt cx="412200" cy="1188360"/>
          </a:xfrm>
        </p:grpSpPr>
        <p:sp>
          <p:nvSpPr>
            <p:cNvPr id="348" name=""/>
            <p:cNvSpPr/>
            <p:nvPr/>
          </p:nvSpPr>
          <p:spPr>
            <a:xfrm flipV="1" rot="5400000">
              <a:off x="5781600" y="233244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32440" y="164304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0000" y="2024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44320" y="221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925960" y="3677400"/>
            <a:ext cx="421200" cy="1134000"/>
            <a:chOff x="5925960" y="3677400"/>
            <a:chExt cx="421200" cy="1134000"/>
          </a:xfrm>
        </p:grpSpPr>
        <p:sp>
          <p:nvSpPr>
            <p:cNvPr id="353" name=""/>
            <p:cNvSpPr/>
            <p:nvPr/>
          </p:nvSpPr>
          <p:spPr>
            <a:xfrm flipV="1" rot="5400000">
              <a:off x="5787000" y="3837960"/>
              <a:ext cx="663480" cy="3412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925960" y="44298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113160" y="4277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28840" y="3806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0880" y="441360"/>
            <a:ext cx="8382240" cy="59594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463760" y="755640"/>
            <a:ext cx="412200" cy="1188360"/>
            <a:chOff x="1463760" y="755640"/>
            <a:chExt cx="412200" cy="1188360"/>
          </a:xfrm>
        </p:grpSpPr>
        <p:sp>
          <p:nvSpPr>
            <p:cNvPr id="359" name=""/>
            <p:cNvSpPr/>
            <p:nvPr/>
          </p:nvSpPr>
          <p:spPr>
            <a:xfrm flipV="1" rot="5400000">
              <a:off x="1312920" y="144504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63760" y="75564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1320" y="1136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75640" y="1330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39240" y="768240"/>
            <a:ext cx="418320" cy="1174680"/>
            <a:chOff x="939240" y="768240"/>
            <a:chExt cx="418320" cy="1174680"/>
          </a:xfrm>
        </p:grpSpPr>
        <p:sp>
          <p:nvSpPr>
            <p:cNvPr id="364" name=""/>
            <p:cNvSpPr/>
            <p:nvPr/>
          </p:nvSpPr>
          <p:spPr>
            <a:xfrm>
              <a:off x="949320" y="7682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36520" y="114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6200000">
              <a:off x="815040" y="1440360"/>
              <a:ext cx="663840" cy="34128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39240" y="13712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976400" y="754200"/>
            <a:ext cx="388800" cy="1113840"/>
            <a:chOff x="1976400" y="754200"/>
            <a:chExt cx="388800" cy="1113840"/>
          </a:xfrm>
        </p:grpSpPr>
        <p:sp>
          <p:nvSpPr>
            <p:cNvPr id="369" name=""/>
            <p:cNvSpPr/>
            <p:nvPr/>
          </p:nvSpPr>
          <p:spPr>
            <a:xfrm>
              <a:off x="1984320" y="75420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71520" y="11350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1866960" y="1388520"/>
              <a:ext cx="58860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81440" y="1295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994480" y="763560"/>
            <a:ext cx="400320" cy="1171440"/>
            <a:chOff x="2994480" y="763560"/>
            <a:chExt cx="400320" cy="1171440"/>
          </a:xfrm>
        </p:grpSpPr>
        <p:sp>
          <p:nvSpPr>
            <p:cNvPr id="374" name=""/>
            <p:cNvSpPr/>
            <p:nvPr/>
          </p:nvSpPr>
          <p:spPr>
            <a:xfrm>
              <a:off x="2995560" y="7635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82760" y="11444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06720" y="1279440"/>
              <a:ext cx="35856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994480" y="1298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460760" y="766800"/>
            <a:ext cx="412200" cy="1188360"/>
            <a:chOff x="4460760" y="766800"/>
            <a:chExt cx="412200" cy="1188360"/>
          </a:xfrm>
        </p:grpSpPr>
        <p:sp>
          <p:nvSpPr>
            <p:cNvPr id="379" name=""/>
            <p:cNvSpPr/>
            <p:nvPr/>
          </p:nvSpPr>
          <p:spPr>
            <a:xfrm flipV="1" rot="5400000">
              <a:off x="4309920" y="145620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60760" y="7668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48320" y="1148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72640" y="13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495240" y="758880"/>
            <a:ext cx="418320" cy="1174680"/>
            <a:chOff x="3495240" y="758880"/>
            <a:chExt cx="418320" cy="1174680"/>
          </a:xfrm>
        </p:grpSpPr>
        <p:sp>
          <p:nvSpPr>
            <p:cNvPr id="384" name=""/>
            <p:cNvSpPr/>
            <p:nvPr/>
          </p:nvSpPr>
          <p:spPr>
            <a:xfrm>
              <a:off x="3505320" y="75888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92520" y="1139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3371040" y="1431000"/>
              <a:ext cx="663840" cy="34128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95240" y="1361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406920" y="766800"/>
            <a:ext cx="388440" cy="1114560"/>
            <a:chOff x="6406920" y="766800"/>
            <a:chExt cx="388440" cy="1114560"/>
          </a:xfrm>
        </p:grpSpPr>
        <p:sp>
          <p:nvSpPr>
            <p:cNvPr id="389" name=""/>
            <p:cNvSpPr/>
            <p:nvPr/>
          </p:nvSpPr>
          <p:spPr>
            <a:xfrm>
              <a:off x="6414840" y="766800"/>
              <a:ext cx="38052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02040" y="1148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6297120" y="1401840"/>
              <a:ext cx="58896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11960" y="1308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491200" y="755640"/>
            <a:ext cx="400320" cy="1171440"/>
            <a:chOff x="2491200" y="755640"/>
            <a:chExt cx="400320" cy="1171440"/>
          </a:xfrm>
        </p:grpSpPr>
        <p:sp>
          <p:nvSpPr>
            <p:cNvPr id="394" name=""/>
            <p:cNvSpPr/>
            <p:nvPr/>
          </p:nvSpPr>
          <p:spPr>
            <a:xfrm>
              <a:off x="2492280" y="75564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79480" y="11365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3440" y="1271520"/>
              <a:ext cx="35856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91200" y="129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983040" y="765000"/>
            <a:ext cx="412200" cy="1188360"/>
            <a:chOff x="3983040" y="765000"/>
            <a:chExt cx="412200" cy="1188360"/>
          </a:xfrm>
        </p:grpSpPr>
        <p:sp>
          <p:nvSpPr>
            <p:cNvPr id="399" name=""/>
            <p:cNvSpPr/>
            <p:nvPr/>
          </p:nvSpPr>
          <p:spPr>
            <a:xfrm flipV="1" rot="5400000">
              <a:off x="3832200" y="145440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83040" y="76500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70600" y="1146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94920" y="133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956120" y="765000"/>
            <a:ext cx="388800" cy="1114560"/>
            <a:chOff x="4956120" y="765000"/>
            <a:chExt cx="388800" cy="1114560"/>
          </a:xfrm>
        </p:grpSpPr>
        <p:sp>
          <p:nvSpPr>
            <p:cNvPr id="404" name=""/>
            <p:cNvSpPr/>
            <p:nvPr/>
          </p:nvSpPr>
          <p:spPr>
            <a:xfrm>
              <a:off x="4964040" y="7650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240" y="11462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5400000">
              <a:off x="4846680" y="1400040"/>
              <a:ext cx="588960" cy="37008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61160" y="1306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455080" y="754200"/>
            <a:ext cx="400320" cy="1171440"/>
            <a:chOff x="5455080" y="754200"/>
            <a:chExt cx="400320" cy="1171440"/>
          </a:xfrm>
        </p:grpSpPr>
        <p:sp>
          <p:nvSpPr>
            <p:cNvPr id="409" name=""/>
            <p:cNvSpPr/>
            <p:nvPr/>
          </p:nvSpPr>
          <p:spPr>
            <a:xfrm>
              <a:off x="5456160" y="75420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43360" y="1135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67320" y="1270080"/>
              <a:ext cx="35856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55080" y="1289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463760" y="4986360"/>
            <a:ext cx="421200" cy="1132920"/>
            <a:chOff x="1463760" y="4986360"/>
            <a:chExt cx="421200" cy="1132920"/>
          </a:xfrm>
        </p:grpSpPr>
        <p:sp>
          <p:nvSpPr>
            <p:cNvPr id="414" name=""/>
            <p:cNvSpPr/>
            <p:nvPr/>
          </p:nvSpPr>
          <p:spPr>
            <a:xfrm flipV="1" rot="5400000">
              <a:off x="1325160" y="514728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463760" y="573840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650960" y="55861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66640" y="51145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959400" y="4946400"/>
            <a:ext cx="400320" cy="1170000"/>
            <a:chOff x="959400" y="4946400"/>
            <a:chExt cx="400320" cy="1170000"/>
          </a:xfrm>
        </p:grpSpPr>
        <p:sp>
          <p:nvSpPr>
            <p:cNvPr id="419" name=""/>
            <p:cNvSpPr/>
            <p:nvPr/>
          </p:nvSpPr>
          <p:spPr>
            <a:xfrm rot="16200000">
              <a:off x="812520" y="510336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961920" y="57348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1149120" y="5582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59400" y="5126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990880" y="5016240"/>
            <a:ext cx="401040" cy="1113840"/>
            <a:chOff x="2990880" y="5016240"/>
            <a:chExt cx="401040" cy="1113840"/>
          </a:xfrm>
        </p:grpSpPr>
        <p:sp>
          <p:nvSpPr>
            <p:cNvPr id="424" name=""/>
            <p:cNvSpPr/>
            <p:nvPr/>
          </p:nvSpPr>
          <p:spPr>
            <a:xfrm flipV="1">
              <a:off x="2990880" y="5749200"/>
              <a:ext cx="381240" cy="380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178440" y="5596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16200000">
              <a:off x="2886120" y="5125320"/>
              <a:ext cx="58860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08520" y="5133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976400" y="4932000"/>
            <a:ext cx="423360" cy="1190880"/>
            <a:chOff x="1976400" y="4932000"/>
            <a:chExt cx="423360" cy="1190880"/>
          </a:xfrm>
        </p:grpSpPr>
        <p:sp>
          <p:nvSpPr>
            <p:cNvPr id="429" name=""/>
            <p:cNvSpPr/>
            <p:nvPr/>
          </p:nvSpPr>
          <p:spPr>
            <a:xfrm flipV="1">
              <a:off x="1976400" y="574200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63960" y="5589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003400" y="493164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9440" y="5095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983040" y="4997520"/>
            <a:ext cx="421200" cy="1132920"/>
            <a:chOff x="3983040" y="4997520"/>
            <a:chExt cx="421200" cy="1132920"/>
          </a:xfrm>
        </p:grpSpPr>
        <p:sp>
          <p:nvSpPr>
            <p:cNvPr id="434" name=""/>
            <p:cNvSpPr/>
            <p:nvPr/>
          </p:nvSpPr>
          <p:spPr>
            <a:xfrm flipV="1" rot="5400000">
              <a:off x="3844440" y="515844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983040" y="57495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170240" y="559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85920" y="5125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516840" y="4959000"/>
            <a:ext cx="400320" cy="1170000"/>
            <a:chOff x="3516840" y="4959000"/>
            <a:chExt cx="400320" cy="1170000"/>
          </a:xfrm>
        </p:grpSpPr>
        <p:sp>
          <p:nvSpPr>
            <p:cNvPr id="439" name=""/>
            <p:cNvSpPr/>
            <p:nvPr/>
          </p:nvSpPr>
          <p:spPr>
            <a:xfrm rot="16200000">
              <a:off x="3369960" y="511596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519360" y="5747400"/>
              <a:ext cx="38088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706560" y="5595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16840" y="513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452920" y="5008320"/>
            <a:ext cx="401040" cy="1113840"/>
            <a:chOff x="5452920" y="5008320"/>
            <a:chExt cx="401040" cy="1113840"/>
          </a:xfrm>
        </p:grpSpPr>
        <p:sp>
          <p:nvSpPr>
            <p:cNvPr id="444" name=""/>
            <p:cNvSpPr/>
            <p:nvPr/>
          </p:nvSpPr>
          <p:spPr>
            <a:xfrm flipV="1">
              <a:off x="5452920" y="5741280"/>
              <a:ext cx="381240" cy="380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5640480" y="5589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16200000">
              <a:off x="5348160" y="5117400"/>
              <a:ext cx="58860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70560" y="5126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402240" y="4924080"/>
            <a:ext cx="423360" cy="1190880"/>
            <a:chOff x="6402240" y="4924080"/>
            <a:chExt cx="423360" cy="1190880"/>
          </a:xfrm>
        </p:grpSpPr>
        <p:sp>
          <p:nvSpPr>
            <p:cNvPr id="449" name=""/>
            <p:cNvSpPr/>
            <p:nvPr/>
          </p:nvSpPr>
          <p:spPr>
            <a:xfrm flipV="1">
              <a:off x="6402240" y="573408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589800" y="5581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429240" y="492372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25280" y="5087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460760" y="4997520"/>
            <a:ext cx="421200" cy="1132920"/>
            <a:chOff x="4460760" y="4997520"/>
            <a:chExt cx="421200" cy="1132920"/>
          </a:xfrm>
        </p:grpSpPr>
        <p:sp>
          <p:nvSpPr>
            <p:cNvPr id="454" name=""/>
            <p:cNvSpPr/>
            <p:nvPr/>
          </p:nvSpPr>
          <p:spPr>
            <a:xfrm flipV="1" rot="5400000">
              <a:off x="4322160" y="515844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4460760" y="574956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4647960" y="559728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63640" y="5125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489040" y="5011560"/>
            <a:ext cx="401040" cy="1114560"/>
            <a:chOff x="2489040" y="5011560"/>
            <a:chExt cx="401040" cy="1114560"/>
          </a:xfrm>
        </p:grpSpPr>
        <p:sp>
          <p:nvSpPr>
            <p:cNvPr id="459" name=""/>
            <p:cNvSpPr/>
            <p:nvPr/>
          </p:nvSpPr>
          <p:spPr>
            <a:xfrm flipV="1">
              <a:off x="2489040" y="57452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676600" y="5592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 rot="16200000">
              <a:off x="2383920" y="5121000"/>
              <a:ext cx="588960" cy="369720"/>
            </a:xfrm>
            <a:prstGeom prst="flowChartDelay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06680" y="5129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952880" y="4922640"/>
            <a:ext cx="423360" cy="1190880"/>
            <a:chOff x="4952880" y="4922640"/>
            <a:chExt cx="423360" cy="1190880"/>
          </a:xfrm>
        </p:grpSpPr>
        <p:sp>
          <p:nvSpPr>
            <p:cNvPr id="464" name=""/>
            <p:cNvSpPr/>
            <p:nvPr/>
          </p:nvSpPr>
          <p:spPr>
            <a:xfrm flipV="1">
              <a:off x="4952880" y="5732640"/>
              <a:ext cx="38124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5140440" y="5580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979880" y="4922280"/>
              <a:ext cx="358920" cy="65556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0" y="439"/>
                  </a:moveTo>
                  <a:cubicBezTo>
                    <a:pt x="4" y="426"/>
                    <a:pt x="3" y="410"/>
                    <a:pt x="12" y="401"/>
                  </a:cubicBezTo>
                  <a:cubicBezTo>
                    <a:pt x="33" y="380"/>
                    <a:pt x="88" y="351"/>
                    <a:pt x="88" y="351"/>
                  </a:cubicBezTo>
                  <a:cubicBezTo>
                    <a:pt x="184" y="360"/>
                    <a:pt x="239" y="339"/>
                    <a:pt x="288" y="414"/>
                  </a:cubicBezTo>
                  <a:cubicBezTo>
                    <a:pt x="292" y="426"/>
                    <a:pt x="300" y="451"/>
                    <a:pt x="300" y="451"/>
                  </a:cubicBezTo>
                  <a:lnTo>
                    <a:pt x="300" y="0"/>
                  </a:lnTo>
                  <a:lnTo>
                    <a:pt x="0" y="0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75920" y="5086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932440" y="747720"/>
            <a:ext cx="412200" cy="1188360"/>
            <a:chOff x="5932440" y="747720"/>
            <a:chExt cx="412200" cy="1188360"/>
          </a:xfrm>
        </p:grpSpPr>
        <p:sp>
          <p:nvSpPr>
            <p:cNvPr id="469" name=""/>
            <p:cNvSpPr/>
            <p:nvPr/>
          </p:nvSpPr>
          <p:spPr>
            <a:xfrm flipV="1" rot="5400000">
              <a:off x="5781600" y="1437120"/>
              <a:ext cx="655560" cy="3412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32440" y="747720"/>
              <a:ext cx="381240" cy="38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20000" y="1128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44320" y="1322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925960" y="4992840"/>
            <a:ext cx="421200" cy="1132920"/>
            <a:chOff x="5925960" y="4992840"/>
            <a:chExt cx="421200" cy="1132920"/>
          </a:xfrm>
        </p:grpSpPr>
        <p:sp>
          <p:nvSpPr>
            <p:cNvPr id="474" name=""/>
            <p:cNvSpPr/>
            <p:nvPr/>
          </p:nvSpPr>
          <p:spPr>
            <a:xfrm flipV="1" rot="5400000">
              <a:off x="5787360" y="5153760"/>
              <a:ext cx="663120" cy="34128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360 h 341280"/>
                <a:gd name="textAreaBottom" fmla="*/ 342000 h 3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5925960" y="5744880"/>
              <a:ext cx="380880" cy="38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6113160" y="559260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28840" y="5121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4T15:01:10Z</dcterms:created>
  <dc:creator>--</dc:creator>
  <dc:description/>
  <dc:language>en-US</dc:language>
  <cp:lastModifiedBy>--- </cp:lastModifiedBy>
  <dcterms:modified xsi:type="dcterms:W3CDTF">2003-04-04T17:49:48Z</dcterms:modified>
  <cp:revision>62</cp:revision>
  <dc:subject/>
  <dc:title>Nessun titolo diapositiva</dc:title>
</cp:coreProperties>
</file>